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5CFD-0CB1-4823-B6C8-E413FDB7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E4C4-001B-4473-9F30-32E092C6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C48-C39E-424C-A769-53F780CC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8A13-6BEF-4A18-B8F2-8711B62B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14C-E577-40C7-A6C4-D68B4A7F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B3D8-4E30-48ED-9811-0005CB7B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DFE-3CDA-4C2C-A7E6-BB79D819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974C-107B-4016-BF99-F8BC6D8B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34E1-4C82-42BA-A13F-2F997970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899D-4AF8-4A33-9D65-09FC9B87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A90-C9EB-4694-B1F5-9D52F1DF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F74-AF89-466E-A7B7-6F161670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4405-28DB-4F1D-BF33-AA6CCD174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DRIVING</a:t>
            </a:r>
            <a:r>
              <a:rPr b="0" lang="en-US" sz="4400" spc="-1" strike="noStrike">
                <a:solidFill>
                  <a:srgbClr val="ff3399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35434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TRAMPOLINEE</a:t>
            </a:r>
            <a:r>
              <a:rPr b="0" lang="en-US" sz="4400" spc="-1" strike="noStrike">
                <a:solidFill>
                  <a:srgbClr val="9900cc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7672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PURPLE </a:t>
            </a:r>
            <a:r>
              <a:rPr b="0" lang="en-US" sz="4400" spc="-1" strike="noStrike">
                <a:solidFill>
                  <a:srgbClr val="66cc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3619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Arial"/>
              </a:rPr>
              <a:t>SKYE</a:t>
            </a:r>
            <a:r>
              <a:rPr b="0" lang="en-US" sz="4400" spc="-1" strike="noStrike">
                <a:solidFill>
                  <a:srgbClr val="ff7c8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71840" y="2233440"/>
            <a:ext cx="4000320" cy="23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ANKS FOR WATCHING</a:t>
            </a:r>
            <a:r>
              <a:rPr b="0" lang="en-US" sz="3200" spc="-1" strike="noStrike">
                <a:solidFill>
                  <a:srgbClr val="99cc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09:47Z</dcterms:created>
  <dc:creator>FPS</dc:creator>
  <dc:description/>
  <dc:language>en-US</dc:language>
  <cp:lastModifiedBy>FPS</cp:lastModifiedBy>
  <dcterms:modified xsi:type="dcterms:W3CDTF">2009-05-20T15:15:24Z</dcterms:modified>
  <cp:revision>5</cp:revision>
  <dc:subject/>
  <dc:title>Slide 1</dc:title>
</cp:coreProperties>
</file>