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8DD-4FF2-4561-85B2-BC7DBB16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09A-4653-4913-AE99-05E226CA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A67-E2B0-4088-9C6B-FA2A2A1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E20-07B0-4973-B654-A0757513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C8D-2E98-4F20-B3A4-F98D3C11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E68-D67E-4BDA-8FFD-D202F47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9A8-887B-4061-9F18-01E130B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0A4-13D5-4368-987D-F1F0AD6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4C8-43C4-4C74-9B0F-F01A618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785-806F-4022-B4EB-07B4080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BB8-5891-4857-9C7B-8727321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393-AD76-44D0-A44A-55BFE6E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3F75-8930-4FCA-BAC6-45425082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RIVING</a:t>
            </a:r>
            <a:r>
              <a:rPr b="0" lang="en-US" sz="4400" spc="-1" strike="noStrike">
                <a:solidFill>
                  <a:srgbClr val="ff33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43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RAMPOLINEE</a:t>
            </a:r>
            <a:r>
              <a:rPr b="0" lang="en-US" sz="4400" spc="-1" strike="noStrike">
                <a:solidFill>
                  <a:srgbClr val="9900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PURPLE </a:t>
            </a:r>
            <a:r>
              <a:rPr b="0" lang="en-US" sz="44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SKYE</a:t>
            </a:r>
            <a:r>
              <a:rPr b="0" lang="en-US" sz="4400" spc="-1" strike="noStrike">
                <a:solidFill>
                  <a:srgbClr val="ff7c8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1840" y="2233440"/>
            <a:ext cx="400032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ANKS FOR WATCHING</a:t>
            </a:r>
            <a:r>
              <a:rPr b="0" lang="en-US" sz="32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09:47Z</dcterms:created>
  <dc:creator>FPS</dc:creator>
  <dc:description/>
  <dc:language>en-US</dc:language>
  <cp:lastModifiedBy>FPS</cp:lastModifiedBy>
  <dcterms:modified xsi:type="dcterms:W3CDTF">2009-05-20T15:15:24Z</dcterms:modified>
  <cp:revision>5</cp:revision>
  <dc:subject/>
  <dc:title>Slide 1</dc:title>
</cp:coreProperties>
</file>