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ECB-C3EC-4DCE-AB02-EEC34492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732-D540-45AC-B820-FF514BC1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B1D-FD36-4ACE-8042-C627E358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FED-116B-474A-BF2B-2D00A8B3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D67-1A61-4869-85D7-B42D61F3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35F-2731-4D3A-80B5-A2A0212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DEE-9EE2-4ABE-ABCA-8C05DC9D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1B3-2C15-44DB-ACE5-63406E57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B7A-1724-479A-921B-BB72369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D97-C504-4360-A9CC-E9AC5A5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6B6-5A7D-401C-BB3B-CED438B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959-724C-495A-95E4-0843664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2EC-E5ED-4E38-A1D8-E3DF2F450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DRIVING</a:t>
            </a:r>
            <a:r>
              <a:rPr b="0" lang="en-US" sz="4400" spc="-1" strike="noStrike">
                <a:solidFill>
                  <a:srgbClr val="ff33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43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RAMPOLINEE</a:t>
            </a:r>
            <a:r>
              <a:rPr b="0" lang="en-US" sz="4400" spc="-1" strike="noStrike">
                <a:solidFill>
                  <a:srgbClr val="9900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PURPLE </a:t>
            </a:r>
            <a:r>
              <a:rPr b="0" lang="en-US" sz="44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SKYE</a:t>
            </a:r>
            <a:r>
              <a:rPr b="0" lang="en-US" sz="4400" spc="-1" strike="noStrike">
                <a:solidFill>
                  <a:srgbClr val="ff7c8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1840" y="2233440"/>
            <a:ext cx="400032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ANKS FOR WATCHING</a:t>
            </a:r>
            <a:r>
              <a:rPr b="0" lang="en-US" sz="32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09:47Z</dcterms:created>
  <dc:creator>FPS</dc:creator>
  <dc:description/>
  <dc:language>en-US</dc:language>
  <cp:lastModifiedBy>FPS</cp:lastModifiedBy>
  <dcterms:modified xsi:type="dcterms:W3CDTF">2009-05-20T15:15:24Z</dcterms:modified>
  <cp:revision>5</cp:revision>
  <dc:subject/>
  <dc:title>Slide 1</dc:title>
</cp:coreProperties>
</file>