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3B2-EBA6-4FA7-B031-B4051569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422-1302-4BD8-A1BE-FFC949F3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940-34AA-4748-972A-D2073332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DDF-3B64-4564-8F45-7D93F986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F36-C0D4-4804-BCCE-568D3667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298-8FFC-46F5-A843-F6E168D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6C3-E4EC-428E-B6DC-26EFB871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5A9-363D-43C8-9924-A5AEECFF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6E0-E922-49F5-91D9-85C18D5B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57D-B2DF-41B0-AA0F-97785D5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B5A-D4A3-4125-982E-A0BB5D9B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E5C-0946-4665-8C7F-0E814DC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326-C98C-44AB-99D7-2849871FA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RIVING</a:t>
            </a:r>
            <a:r>
              <a:rPr b="0" lang="en-US" sz="4400" spc="-1" strike="noStrike">
                <a:solidFill>
                  <a:srgbClr val="ff33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43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RAMPOLINEE</a:t>
            </a:r>
            <a:r>
              <a:rPr b="0" lang="en-US" sz="4400" spc="-1" strike="noStrike">
                <a:solidFill>
                  <a:srgbClr val="9900cc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PURPLE </a:t>
            </a:r>
            <a:r>
              <a:rPr b="0" lang="en-US" sz="44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Arial"/>
              </a:rPr>
              <a:t>SKYE</a:t>
            </a:r>
            <a:r>
              <a:rPr b="0" lang="en-US" sz="4400" spc="-1" strike="noStrike">
                <a:solidFill>
                  <a:srgbClr val="ff7c8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1840" y="2233440"/>
            <a:ext cx="400032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ANKS FOR WATCHING</a:t>
            </a:r>
            <a:r>
              <a:rPr b="0" lang="en-US" sz="32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09:47Z</dcterms:created>
  <dc:creator>FPS</dc:creator>
  <dc:description/>
  <dc:language>en-US</dc:language>
  <cp:lastModifiedBy>FPS</cp:lastModifiedBy>
  <dcterms:modified xsi:type="dcterms:W3CDTF">2009-05-20T15:15:24Z</dcterms:modified>
  <cp:revision>5</cp:revision>
  <dc:subject/>
  <dc:title>Slide 1</dc:title>
</cp:coreProperties>
</file>