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1D9-0965-412F-AA9A-CD9546B9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70B-A092-4F65-B30F-4FB30CF1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F86-926A-4645-AEAE-6DC536B1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219-E284-42F4-82D2-8ED8C46B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811-7652-4BD1-8E36-EDE6CEB3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6AE-686D-4C53-98D7-9BAA85A9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59C-AE92-4299-9D4D-4EF10B7A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860-8B1A-4181-AF04-9738DBEA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C59-6627-490D-86DD-26F933F9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186-9A1C-4C41-9628-F4B4282C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EC7-7241-4B7F-8771-80048E3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4B5-879C-44CD-A499-9E6B4FFF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7E34-5321-4F11-88C9-003AAD639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ustin Tro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60962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57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c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ar shre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086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stive volcano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5943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mboard compilit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0:55Z</dcterms:created>
  <dc:creator>FPS</dc:creator>
  <dc:description/>
  <dc:language>en-US</dc:language>
  <cp:lastModifiedBy>FPS</cp:lastModifiedBy>
  <dcterms:modified xsi:type="dcterms:W3CDTF">2009-05-15T15:26:45Z</dcterms:modified>
  <cp:revision>3</cp:revision>
  <dc:subject/>
  <dc:title>Animations</dc:title>
</cp:coreProperties>
</file>