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gif" ContentType="image/gif"/>
  <Override PartName="/ppt/media/image3.gif" ContentType="image/gif"/>
  <Override PartName="/ppt/media/image4.gif" ContentType="image/gif"/>
  <Override PartName="/ppt/media/image5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71FA2-4AF3-4636-AE13-35262D396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DBAAB-5A0B-4B53-ADFB-EC23D0C3A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27542-2BFF-4891-844C-637985D1D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04BC3-8FA3-4D2A-8D9A-F9CFCC3DD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F4E63-D876-49C8-A352-0335CF27F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932E3-7A83-4838-8A68-78835B361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BAD97-9766-488E-809C-50919D309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7F420-5B33-45EE-99EC-E2AB08269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225A9-B59B-4FB5-B447-9D6D3DE8B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0A37A-C93F-41E8-9435-4FE557F5F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E51AA-4A9F-42EC-822B-DE2B88684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3B44B-CA1E-41C1-B10C-E99662ABD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4D527-5EAA-42EE-B1D3-96AD27D025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im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Austin Trot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981080" y="2362320"/>
            <a:ext cx="6096240" cy="392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676520" y="457200"/>
            <a:ext cx="563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pic fa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nar shreded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990720" y="533520"/>
            <a:ext cx="708660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estive volcano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295280" y="1143000"/>
            <a:ext cx="59436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kimboard compilitatio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447920" y="1447920"/>
            <a:ext cx="624816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3T15:10:55Z</dcterms:created>
  <dc:creator>FPS</dc:creator>
  <dc:description/>
  <dc:language>en-US</dc:language>
  <cp:lastModifiedBy>FPS</cp:lastModifiedBy>
  <dcterms:modified xsi:type="dcterms:W3CDTF">2009-05-15T15:26:45Z</dcterms:modified>
  <cp:revision>3</cp:revision>
  <dc:subject/>
  <dc:title>Animations</dc:title>
</cp:coreProperties>
</file>