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20C-78B9-45AA-A7D0-EC56341C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70E-BF36-47B1-8947-51C02F61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273-DFEB-4200-B882-56FD1501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A7A-3895-4099-B609-2CC26DFC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BD4-5126-4431-9DCE-D0B9F3A9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ECB-98A9-4AE2-949C-123FAE8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506-21C7-4579-AB73-A0A42844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CEE-6346-4F7C-8FC9-1B6F8A0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F19-20DA-4101-BF55-8F74EA6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A10-D9E3-4AB3-A52C-9AEC00F0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F07-31BF-41AA-96CC-BDC1BD4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513-F16D-497F-9C2B-B37009DB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764-0E09-45DC-A8AD-30BEA660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ustin Tr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60962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ar shre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stive volcano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94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mboard compili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0:55Z</dcterms:created>
  <dc:creator>FPS</dc:creator>
  <dc:description/>
  <dc:language>en-US</dc:language>
  <cp:lastModifiedBy>FPS</cp:lastModifiedBy>
  <dcterms:modified xsi:type="dcterms:W3CDTF">2009-05-15T15:26:45Z</dcterms:modified>
  <cp:revision>3</cp:revision>
  <dc:subject/>
  <dc:title>Animations</dc:title>
</cp:coreProperties>
</file>