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60E-A22D-49B8-BEB1-A3720967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3C9-57A9-4895-ABC2-EC68C186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6AF-2F08-4DB5-B197-32F9C3EB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A49-021B-41F4-B500-101AA5E4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92E-3B45-4B05-9A72-24CAA6DE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5C3-0419-4E67-8C15-A0B883E1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495-6F64-4DF2-98E7-5A05F8DA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D07-423D-4B68-B50B-E938A493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FB0-585A-49C9-B1CA-84177BBA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490-CF19-42E7-BF2E-A745A0AE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EE5-2B08-4739-B03A-DE5824F7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D4E-350F-4D80-9F28-369D11C9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DCC4-DE4B-4850-A152-4DAF1F3A3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ustin Tro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609624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4572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c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ar shre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086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stive volcano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5943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mboard compilit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248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10:55Z</dcterms:created>
  <dc:creator>FPS</dc:creator>
  <dc:description/>
  <dc:language>en-US</dc:language>
  <cp:lastModifiedBy>FPS</cp:lastModifiedBy>
  <dcterms:modified xsi:type="dcterms:W3CDTF">2009-05-15T15:26:45Z</dcterms:modified>
  <cp:revision>3</cp:revision>
  <dc:subject/>
  <dc:title>Animations</dc:title>
</cp:coreProperties>
</file>