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3D3-6AC9-4D67-B07D-F3D29CBC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E2D-958F-41D5-A375-804A2ED2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DE2-4DB7-411D-992C-8D53CC09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338-F99C-49E9-B616-24918F4A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8577-7F8F-4ADB-BAD3-EA2DC14E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9A72-6E48-43AA-AC5D-536B18A7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FAE5-2A63-432C-92EA-A3C78DB1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5215-916E-4DE3-BD70-DF7168BA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B873-785C-44A9-8E73-A0A55D03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FE49-E1DD-4805-BC67-2FEC4787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8F6-7DEF-4B52-B694-BCCD4094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20D-0679-40BC-B7AC-6F225E6D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1E92-77CC-4A5E-AEDF-52349B7A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3269-35B5-4A97-A3C7-0D78C68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28A2-CFBF-4E63-9EA9-FA442BA1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B466-E71A-4564-BA12-C78765FA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A26B-1B08-4B53-A2F7-CF96746C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2FA-90D7-4BF1-BBE7-21C17609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301-3071-41B2-B1EE-BA4146C3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FFB-4B10-44AE-A01F-559FCAE8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430-0193-4184-8DDE-3E75A1CB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E69-F417-46AC-AB2D-311B25F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694-B28E-4D42-97C3-46B970A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081-E0CA-4CAF-8128-90FF885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0276-8025-43A9-8D64-13A7C520872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6E46-E9C2-4D54-8B63-2E91D1C35F7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oadway"/>
              </a:rPr>
              <a:t>Awesome Animation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du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93160" y="4988160"/>
            <a:ext cx="1630080" cy="1681920"/>
            <a:chOff x="7193160" y="4988160"/>
            <a:chExt cx="1630080" cy="168192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rcRect l="4760" t="6347" r="21428" b="41802"/>
            <a:stretch/>
          </p:blipFill>
          <p:spPr>
            <a:xfrm>
              <a:off x="7391520" y="5440320"/>
              <a:ext cx="108108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19489800">
              <a:off x="7467480" y="5181120"/>
              <a:ext cx="1081080" cy="1295640"/>
            </a:xfrm>
            <a:prstGeom prst="irregularSeal2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 rot="1091400">
              <a:off x="7429320" y="5980320"/>
              <a:ext cx="785880" cy="24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Dow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Wwwww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tating Butterf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1584360" cy="1600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1676520" cy="16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56069E-006 C 0.03368 0.12 0.06753 0.24023 0.0191 0.28324 C -0.02934 0.32624 -0.26354 0.22798 -0.29045 0.25804 C -0.31736 0.28809 -0.23281 0.44278 -0.14288 0.46312 C -0.05295 0.48347 0.20382 0.45272 0.24913 0.38058 C 0.29444 0.30844 0.16458 0.09434 0.12865 0.0296 C 0.09271 -0.03514 0.04583 -0.0037 0.03333 -0.00832 C 0.02083 -0.01295 0.05052 0.00046 0.05399 0.00208 E">
                                      <p:cBhvr>
                                        <p:cTn id="15" dur="3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8 -0.52925 C -0.23976 -0.47815 -0.26598 -0.27237 -0.225 -0.21202 C -0.18403 -0.15168 -0.05747 -0.20208 0.00521 -0.16763 C 0.06788 -0.13318 0.14809 -0.07098 0.15121 -0.00486 C 0.15434 0.06127 0.08472 0.18798 0.02413 0.22959 C -0.03646 0.27121 -0.20278 0.21364 -0.21233 0.24439 C -0.22188 0.27514 -0.08907 0.38566 -0.03299 0.41364 C 0.02309 0.44162 0.06545 0.52994 0.12413 0.41156 C 0.18281 0.29318 0.34236 -0.14751 0.31944 -0.29665 C 0.29652 -0.44578 0.07795 -0.44578 -0.01389 -0.48278 C -0.10573 -0.51977 -0.19306 -0.51052 -0.23143 -0.51861 C -0.26979 -0.52671 -0.24184 -0.58035 -0.2408 -0.52925 Z">
                                      <p:cBhvr>
                                        <p:cTn id="19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e Composer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829480" cy="31622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276696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l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2743200" cy="41626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429000" y="685800"/>
            <a:ext cx="2862360" cy="4343400"/>
          </a:xfrm>
          <a:prstGeom prst="rect">
            <a:avLst/>
          </a:prstGeom>
          <a:ln w="0">
            <a:noFill/>
          </a:ln>
        </p:spPr>
      </p:pic>
      <p:pic>
        <p:nvPicPr>
          <p:cNvPr id="365" name="flower animation" descr=""/>
          <p:cNvPicPr/>
          <p:nvPr/>
        </p:nvPicPr>
        <p:blipFill>
          <a:blip r:embed="rId3"/>
          <a:stretch/>
        </p:blipFill>
        <p:spPr>
          <a:xfrm>
            <a:off x="5562720" y="4594320"/>
            <a:ext cx="3187440" cy="2098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352680" y="5791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d BUGS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imation using Clo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First Elements Animation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ments Anim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019240" cy="20196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R Paint Brush To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3434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anks for watching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snowman animation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384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15:15Z</dcterms:created>
  <dc:creator>jwilson2</dc:creator>
  <dc:description/>
  <dc:language>en-US</dc:language>
  <cp:lastModifiedBy>jwilson2</cp:lastModifiedBy>
  <dcterms:modified xsi:type="dcterms:W3CDTF">2007-03-08T14:07:24Z</dcterms:modified>
  <cp:revision>18</cp:revision>
  <dc:subject/>
  <dc:title>Awesome Animations</dc:title>
</cp:coreProperties>
</file>