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3F9-E489-4B85-B929-55D89276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248-A99D-476D-BED5-CF3A7733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765-CA64-4A29-ADA8-948E2282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4EB-D1D1-420A-8204-DC29D8C7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BEB6-A7B7-4FB1-BAB9-3A03480D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AECD-6C59-4E5B-B746-2C38475B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0F1E-609A-4780-B63D-375FB3DD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90AC-2B78-44A1-B093-1426E506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674A-7592-4C6B-9E86-EBD14735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00DA-2D5D-4B3B-8EFC-3D061E67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7F55-B53E-4B0A-9A98-AC4A991E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945-8BB7-4339-9E7A-0960D87A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DC4E-6385-4F75-81AF-5ACCF033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5474-30BA-409D-9EBF-7926BC20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18D8-45E0-4DC0-98A6-AA1129BB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D969-EC35-4154-81A8-A620C772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C84F-4C95-484C-B850-C072D1FC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315-80F2-4AE5-BEAB-27E58047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697-3740-433F-8042-9A77E7D7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7B3-D0A4-4FB3-9164-9CC5B523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4DC-EE5F-41E4-B049-67071B5D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E81-6A81-4C58-B253-70DAEFA9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D95-EA6C-47A9-A8AA-6E8AB8E2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871-EF43-4E53-86FC-21B1D814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5A87-5F89-4DD0-A3E0-6997AAFA4AA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6989-45F0-4861-B671-6B040CDA3E6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oadway"/>
              </a:rPr>
              <a:t>Awesome Animation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roduc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193160" y="4988160"/>
            <a:ext cx="1630080" cy="1681920"/>
            <a:chOff x="7193160" y="4988160"/>
            <a:chExt cx="1630080" cy="168192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rcRect l="4760" t="6347" r="21428" b="41802"/>
            <a:stretch/>
          </p:blipFill>
          <p:spPr>
            <a:xfrm>
              <a:off x="7391520" y="5440320"/>
              <a:ext cx="108108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19489800">
              <a:off x="7467480" y="5181120"/>
              <a:ext cx="1081080" cy="1295640"/>
            </a:xfrm>
            <a:prstGeom prst="irregularSeal2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 rot="1091400">
              <a:off x="7429320" y="5980320"/>
              <a:ext cx="785880" cy="24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Dow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wwww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otating Butterfl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1584360" cy="16002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1676520" cy="165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56069E-006 C 0.03368 0.12 0.06753 0.24023 0.0191 0.28324 C -0.02934 0.32624 -0.26354 0.22798 -0.29045 0.25804 C -0.31736 0.28809 -0.23281 0.44278 -0.14288 0.46312 C -0.05295 0.48347 0.20382 0.45272 0.24913 0.38058 C 0.29444 0.30844 0.16458 0.09434 0.12865 0.0296 C 0.09271 -0.03514 0.04583 -0.0037 0.03333 -0.00832 C 0.02083 -0.01295 0.05052 0.00046 0.05399 0.00208 E">
                                      <p:cBhvr>
                                        <p:cTn id="15" dur="3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08 -0.52925 C -0.23976 -0.47815 -0.26598 -0.27237 -0.225 -0.21202 C -0.18403 -0.15168 -0.05747 -0.20208 0.00521 -0.16763 C 0.06788 -0.13318 0.14809 -0.07098 0.15121 -0.00486 C 0.15434 0.06127 0.08472 0.18798 0.02413 0.22959 C -0.03646 0.27121 -0.20278 0.21364 -0.21233 0.24439 C -0.22188 0.27514 -0.08907 0.38566 -0.03299 0.41364 C 0.02309 0.44162 0.06545 0.52994 0.12413 0.41156 C 0.18281 0.29318 0.34236 -0.14751 0.31944 -0.29665 C 0.29652 -0.44578 0.07795 -0.44578 -0.01389 -0.48278 C -0.10573 -0.51977 -0.19306 -0.51052 -0.23143 -0.51861 C -0.26979 -0.52671 -0.24184 -0.58035 -0.2408 -0.52925 Z">
                                      <p:cBhvr>
                                        <p:cTn id="19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mage Composer Anim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829480" cy="31622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791320" y="3733920"/>
            <a:ext cx="276696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low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2743200" cy="41626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429000" y="685800"/>
            <a:ext cx="2862360" cy="4343400"/>
          </a:xfrm>
          <a:prstGeom prst="rect">
            <a:avLst/>
          </a:prstGeom>
          <a:ln w="0">
            <a:noFill/>
          </a:ln>
        </p:spPr>
      </p:pic>
      <p:pic>
        <p:nvPicPr>
          <p:cNvPr id="365" name="flower animation" descr=""/>
          <p:cNvPicPr/>
          <p:nvPr/>
        </p:nvPicPr>
        <p:blipFill>
          <a:blip r:embed="rId3"/>
          <a:stretch/>
        </p:blipFill>
        <p:spPr>
          <a:xfrm>
            <a:off x="5562720" y="4594320"/>
            <a:ext cx="3187440" cy="20984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352680" y="57913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nd BUGS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imation using Clo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First Elements Animation 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ments Anim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019240" cy="20196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R Paint Brush To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anks for watching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9" name="snowman animation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33843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9:15:15Z</dcterms:created>
  <dc:creator>jwilson2</dc:creator>
  <dc:description/>
  <dc:language>en-US</dc:language>
  <cp:lastModifiedBy>jwilson2</cp:lastModifiedBy>
  <dcterms:modified xsi:type="dcterms:W3CDTF">2007-03-08T14:07:24Z</dcterms:modified>
  <cp:revision>18</cp:revision>
  <dc:subject/>
  <dc:title>Awesome Animations</dc:title>
</cp:coreProperties>
</file>