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11.gif" ContentType="image/gif"/>
  <Override PartName="/ppt/media/image7.gif" ContentType="image/gif"/>
  <Override PartName="/ppt/media/image12.gif" ContentType="image/gif"/>
  <Override PartName="/ppt/media/image8.gif" ContentType="image/gif"/>
  <Override PartName="/ppt/media/image13.gif" ContentType="image/gif"/>
  <Override PartName="/ppt/media/image9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01BF-7A1B-43FE-A905-206F3798A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14BE-8974-488C-A819-297BF94D1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968E-DE6C-4756-BA16-7E9F8C9D8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BE84-FEB7-432B-A06A-D734DB6DF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931FD-1485-41C7-AE5F-DE705D890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921EB-FBB0-45B0-B91F-27BA2C1BF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8F6D7-AE0C-4FED-9669-BF4381510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A417C-E220-4F74-A5DE-E67EA31D1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DFD51-FE2B-4C80-923D-98E3EB785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A920E-04F1-4017-9450-7660EA5E7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82C61-C660-443B-87EC-5F6AE8890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226B-8455-47EC-993E-8EFDA17AC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B9E38-2527-43D3-8E15-1A27FFB7E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FDC44-8495-4D94-B177-98C8C55AA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BC22B-9CF7-4B30-92DB-16ABAAD8D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AC3B5-2237-481D-BE46-41664C4CC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527D7-4549-432B-BAFB-DC1B89F1A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F5AB-B90C-48E0-B3EF-418D3F0CD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10B6-BD16-4171-BF8E-25D058A97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120E-D451-43E6-B567-A6B757B37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CBA4-E4FC-4A05-81ED-29D7ECF5B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6E5F-ADD3-4DB5-A9B6-5E809ED60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1A1D-2EEE-4DAC-BD3B-16D8E1985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DD07-6D96-41DF-8950-5A9A5F27B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EE4EC-74C8-4175-9A67-DA0329E84B8D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2A6C9-9F82-4152-900E-4F0DB3E2099C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roadway"/>
              </a:rPr>
              <a:t>Awesome Animations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Production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7193160" y="4988160"/>
            <a:ext cx="1630080" cy="1681920"/>
            <a:chOff x="7193160" y="4988160"/>
            <a:chExt cx="1630080" cy="1681920"/>
          </a:xfrm>
        </p:grpSpPr>
        <p:pic>
          <p:nvPicPr>
            <p:cNvPr id="353" name="" descr=""/>
            <p:cNvPicPr/>
            <p:nvPr/>
          </p:nvPicPr>
          <p:blipFill>
            <a:blip r:embed="rId1"/>
            <a:srcRect l="4760" t="6347" r="21428" b="41802"/>
            <a:stretch/>
          </p:blipFill>
          <p:spPr>
            <a:xfrm>
              <a:off x="7391520" y="5440320"/>
              <a:ext cx="1081080" cy="63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"/>
            <p:cNvSpPr/>
            <p:nvPr/>
          </p:nvSpPr>
          <p:spPr>
            <a:xfrm rot="19489800">
              <a:off x="7467480" y="5181120"/>
              <a:ext cx="1081080" cy="1295640"/>
            </a:xfrm>
            <a:prstGeom prst="irregularSeal2">
              <a:avLst/>
            </a:prstGeom>
            <a:noFill/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5" name=""/>
            <p:cNvSpPr txBox="1"/>
            <p:nvPr/>
          </p:nvSpPr>
          <p:spPr>
            <a:xfrm rot="1091400">
              <a:off x="7429320" y="5980320"/>
              <a:ext cx="785880" cy="247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urveDown">
                <a:avLst>
                  <a:gd name="adj" fmla="val 4583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Wwwww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Rotating Butterfli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6172200" y="2743200"/>
            <a:ext cx="1584360" cy="160020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2"/>
          <a:stretch/>
        </p:blipFill>
        <p:spPr>
          <a:xfrm>
            <a:off x="1828800" y="2819520"/>
            <a:ext cx="1676520" cy="165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" dur="2000" fill="hold"/>
                                        <p:tgtEl>
                                          <p:spTgt spid="35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1.56069E-006 C 0.03368 0.12 0.06753 0.24023 0.0191 0.28324 C -0.02934 0.32624 -0.26354 0.22798 -0.29045 0.25804 C -0.31736 0.28809 -0.23281 0.44278 -0.14288 0.46312 C -0.05295 0.48347 0.20382 0.45272 0.24913 0.38058 C 0.29444 0.30844 0.16458 0.09434 0.12865 0.0296 C 0.09271 -0.03514 0.04583 -0.0037 0.03333 -0.00832 C 0.02083 -0.01295 0.05052 0.00046 0.05399 0.00208 E">
                                      <p:cBhvr>
                                        <p:cTn id="15" dur="3000" fill="hold"/>
                                        <p:tgtEl>
                                          <p:spTgt spid="3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408 -0.52925 C -0.23976 -0.47815 -0.26598 -0.27237 -0.225 -0.21202 C -0.18403 -0.15168 -0.05747 -0.20208 0.00521 -0.16763 C 0.06788 -0.13318 0.14809 -0.07098 0.15121 -0.00486 C 0.15434 0.06127 0.08472 0.18798 0.02413 0.22959 C -0.03646 0.27121 -0.20278 0.21364 -0.21233 0.24439 C -0.22188 0.27514 -0.08907 0.38566 -0.03299 0.41364 C 0.02309 0.44162 0.06545 0.52994 0.12413 0.41156 C 0.18281 0.29318 0.34236 -0.14751 0.31944 -0.29665 C 0.29652 -0.44578 0.07795 -0.44578 -0.01389 -0.48278 C -0.10573 -0.51977 -0.19306 -0.51052 -0.23143 -0.51861 C -0.26979 -0.52671 -0.24184 -0.58035 -0.2408 -0.52925 Z">
                                      <p:cBhvr>
                                        <p:cTn id="19" dur="2000" fill="hold"/>
                                        <p:tgtEl>
                                          <p:spTgt spid="3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Image Composer Animation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685800" y="2133720"/>
            <a:ext cx="5829480" cy="316224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5791320" y="3733920"/>
            <a:ext cx="2766960" cy="257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Flower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2743200" cy="416268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2"/>
          <a:stretch/>
        </p:blipFill>
        <p:spPr>
          <a:xfrm>
            <a:off x="3429000" y="685800"/>
            <a:ext cx="2862360" cy="4343400"/>
          </a:xfrm>
          <a:prstGeom prst="rect">
            <a:avLst/>
          </a:prstGeom>
          <a:ln w="0">
            <a:noFill/>
          </a:ln>
        </p:spPr>
      </p:pic>
      <p:pic>
        <p:nvPicPr>
          <p:cNvPr id="365" name="flower animation" descr=""/>
          <p:cNvPicPr/>
          <p:nvPr/>
        </p:nvPicPr>
        <p:blipFill>
          <a:blip r:embed="rId3"/>
          <a:stretch/>
        </p:blipFill>
        <p:spPr>
          <a:xfrm>
            <a:off x="5562720" y="4594320"/>
            <a:ext cx="3187440" cy="2098440"/>
          </a:xfrm>
          <a:prstGeom prst="rect">
            <a:avLst/>
          </a:prstGeom>
          <a:ln w="0">
            <a:noFill/>
          </a:ln>
        </p:spPr>
      </p:pic>
      <p:sp>
        <p:nvSpPr>
          <p:cNvPr id="366" name=""/>
          <p:cNvSpPr/>
          <p:nvPr/>
        </p:nvSpPr>
        <p:spPr>
          <a:xfrm>
            <a:off x="3352680" y="579132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And BUGS!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Animation using Cloning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1828800" y="2590920"/>
            <a:ext cx="1905120" cy="1428480"/>
          </a:xfrm>
          <a:prstGeom prst="rect">
            <a:avLst/>
          </a:prstGeom>
          <a:ln w="0">
            <a:noFill/>
          </a:ln>
        </p:spPr>
      </p:pic>
      <p:pic>
        <p:nvPicPr>
          <p:cNvPr id="369" name="" descr=""/>
          <p:cNvPicPr/>
          <p:nvPr/>
        </p:nvPicPr>
        <p:blipFill>
          <a:blip r:embed="rId2"/>
          <a:stretch/>
        </p:blipFill>
        <p:spPr>
          <a:xfrm>
            <a:off x="4495680" y="3276720"/>
            <a:ext cx="2590920" cy="194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My First Elements Animation !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1"/>
          <a:stretch/>
        </p:blipFill>
        <p:spPr>
          <a:xfrm>
            <a:off x="3352680" y="2209680"/>
            <a:ext cx="2552760" cy="2552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lements Animation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2286000" y="2209680"/>
            <a:ext cx="2019240" cy="2019600"/>
          </a:xfrm>
          <a:prstGeom prst="rect">
            <a:avLst/>
          </a:prstGeom>
          <a:ln w="0">
            <a:noFill/>
          </a:ln>
        </p:spPr>
      </p:pic>
      <p:pic>
        <p:nvPicPr>
          <p:cNvPr id="374" name="" descr=""/>
          <p:cNvPicPr/>
          <p:nvPr/>
        </p:nvPicPr>
        <p:blipFill>
          <a:blip r:embed="rId2"/>
          <a:stretch/>
        </p:blipFill>
        <p:spPr>
          <a:xfrm>
            <a:off x="5181480" y="3276720"/>
            <a:ext cx="1447920" cy="144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TAR Paint Brush Tool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tretch/>
        </p:blipFill>
        <p:spPr>
          <a:xfrm>
            <a:off x="1143000" y="2133720"/>
            <a:ext cx="1905120" cy="1904760"/>
          </a:xfrm>
          <a:prstGeom prst="rect">
            <a:avLst/>
          </a:prstGeom>
          <a:ln w="0">
            <a:noFill/>
          </a:ln>
        </p:spPr>
      </p:pic>
      <p:pic>
        <p:nvPicPr>
          <p:cNvPr id="377" name="" descr=""/>
          <p:cNvPicPr/>
          <p:nvPr/>
        </p:nvPicPr>
        <p:blipFill>
          <a:blip r:embed="rId2"/>
          <a:stretch/>
        </p:blipFill>
        <p:spPr>
          <a:xfrm>
            <a:off x="4343400" y="335268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Thanks for watching!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79" name="snowman animation" descr=""/>
          <p:cNvPicPr/>
          <p:nvPr/>
        </p:nvPicPr>
        <p:blipFill>
          <a:blip r:embed="rId1"/>
          <a:stretch/>
        </p:blipFill>
        <p:spPr>
          <a:xfrm>
            <a:off x="1447920" y="1981080"/>
            <a:ext cx="3384360" cy="3886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2T19:15:15Z</dcterms:created>
  <dc:creator>jwilson2</dc:creator>
  <dc:description/>
  <dc:language>en-US</dc:language>
  <cp:lastModifiedBy>jwilson2</cp:lastModifiedBy>
  <dcterms:modified xsi:type="dcterms:W3CDTF">2007-03-08T14:07:24Z</dcterms:modified>
  <cp:revision>18</cp:revision>
  <dc:subject/>
  <dc:title>Awesome Animations</dc:title>
</cp:coreProperties>
</file>