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CFE7-8C4D-45FF-AD1C-2D95CF649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CA15-D310-4EE2-99E8-8253EB50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323E-3DA5-4372-B448-E68322DAC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65B4-152E-4B3F-9DCD-3B4F01D88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F720-46C0-49BD-8633-BE3151E7D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C691-5971-474C-AB6D-F027AA9A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2FC6-6DDC-4BD1-AA2E-463B666C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2930-5FC4-4744-AA42-098E6DC3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D609-E606-4EAF-9E50-7FF5BCFF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3514-FFF3-40C7-9E60-738499C8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8C790-A8AE-43B1-9406-FC71F9C5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04F5-FB84-46C0-8BE3-144A13E9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A1CE2-FAAC-4CC3-BEF9-3A237551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AE3A-8D13-42B6-9E5B-4863AC23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42F0-D282-4646-87D7-D3BAD810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298B8-BAFE-4248-92FC-ADF7636BF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C652-E783-4418-95E6-32BEB2488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B9D9-BCA6-4E07-A8BF-619ACD19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FF3D-5C06-42A2-A11D-87B2E23C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124C-7700-49B3-8AE0-049CBC74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C837-DD63-4622-AD54-58534C9D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B547-C54B-4C55-B9DD-466272A9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94EC-15F7-4A23-B0C9-3DD2285A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1F91-BFD3-46EF-BBF1-FB02FF72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3E74-FF77-4B64-9666-49B254FD6CC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8E15-0544-4B4A-ACA4-558002F8A5B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roadway"/>
              </a:rPr>
              <a:t>Awesome Animations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roductio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7193160" y="4988160"/>
            <a:ext cx="1630080" cy="1681920"/>
            <a:chOff x="7193160" y="4988160"/>
            <a:chExt cx="1630080" cy="1681920"/>
          </a:xfrm>
        </p:grpSpPr>
        <p:pic>
          <p:nvPicPr>
            <p:cNvPr id="353" name="" descr=""/>
            <p:cNvPicPr/>
            <p:nvPr/>
          </p:nvPicPr>
          <p:blipFill>
            <a:blip r:embed="rId1"/>
            <a:srcRect l="4760" t="6347" r="21428" b="41802"/>
            <a:stretch/>
          </p:blipFill>
          <p:spPr>
            <a:xfrm>
              <a:off x="7391520" y="5440320"/>
              <a:ext cx="1081080" cy="6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 rot="19489800">
              <a:off x="7467480" y="5181120"/>
              <a:ext cx="1081080" cy="1295640"/>
            </a:xfrm>
            <a:prstGeom prst="irregularSeal2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5" name=""/>
            <p:cNvSpPr txBox="1"/>
            <p:nvPr/>
          </p:nvSpPr>
          <p:spPr>
            <a:xfrm rot="1091400">
              <a:off x="7429320" y="5980320"/>
              <a:ext cx="785880" cy="247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Down">
                <a:avLst>
                  <a:gd name="adj" fmla="val 458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Wwwww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otating Butterfli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6172200" y="2743200"/>
            <a:ext cx="1584360" cy="160020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1828800" y="2819520"/>
            <a:ext cx="1676520" cy="165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3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56069E-006 C 0.03368 0.12 0.06753 0.24023 0.0191 0.28324 C -0.02934 0.32624 -0.26354 0.22798 -0.29045 0.25804 C -0.31736 0.28809 -0.23281 0.44278 -0.14288 0.46312 C -0.05295 0.48347 0.20382 0.45272 0.24913 0.38058 C 0.29444 0.30844 0.16458 0.09434 0.12865 0.0296 C 0.09271 -0.03514 0.04583 -0.0037 0.03333 -0.00832 C 0.02083 -0.01295 0.05052 0.00046 0.05399 0.00208 E">
                                      <p:cBhvr>
                                        <p:cTn id="15" dur="3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08 -0.52925 C -0.23976 -0.47815 -0.26598 -0.27237 -0.225 -0.21202 C -0.18403 -0.15168 -0.05747 -0.20208 0.00521 -0.16763 C 0.06788 -0.13318 0.14809 -0.07098 0.15121 -0.00486 C 0.15434 0.06127 0.08472 0.18798 0.02413 0.22959 C -0.03646 0.27121 -0.20278 0.21364 -0.21233 0.24439 C -0.22188 0.27514 -0.08907 0.38566 -0.03299 0.41364 C 0.02309 0.44162 0.06545 0.52994 0.12413 0.41156 C 0.18281 0.29318 0.34236 -0.14751 0.31944 -0.29665 C 0.29652 -0.44578 0.07795 -0.44578 -0.01389 -0.48278 C -0.10573 -0.51977 -0.19306 -0.51052 -0.23143 -0.51861 C -0.26979 -0.52671 -0.24184 -0.58035 -0.2408 -0.52925 Z">
                                      <p:cBhvr>
                                        <p:cTn id="19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mage Composer Anima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829480" cy="316224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5791320" y="3733920"/>
            <a:ext cx="2766960" cy="25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lowe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2743200" cy="416268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3429000" y="685800"/>
            <a:ext cx="2862360" cy="4343400"/>
          </a:xfrm>
          <a:prstGeom prst="rect">
            <a:avLst/>
          </a:prstGeom>
          <a:ln w="0">
            <a:noFill/>
          </a:ln>
        </p:spPr>
      </p:pic>
      <p:pic>
        <p:nvPicPr>
          <p:cNvPr id="365" name="flower animation" descr=""/>
          <p:cNvPicPr/>
          <p:nvPr/>
        </p:nvPicPr>
        <p:blipFill>
          <a:blip r:embed="rId3"/>
          <a:stretch/>
        </p:blipFill>
        <p:spPr>
          <a:xfrm>
            <a:off x="5562720" y="4594320"/>
            <a:ext cx="3187440" cy="209844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3352680" y="57913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And BUGS!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nimation using Clonin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828800" y="259092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4495680" y="3276720"/>
            <a:ext cx="2590920" cy="194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y First Elements Animation 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3352680" y="2209680"/>
            <a:ext cx="2552760" cy="25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ements Anima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2019240" cy="201960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5181480" y="3276720"/>
            <a:ext cx="144792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TAR Paint Brush Too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4343400" y="33526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anks for watching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9" name="snowman animation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3384360" cy="3886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19:15:15Z</dcterms:created>
  <dc:creator>jwilson2</dc:creator>
  <dc:description/>
  <dc:language>en-US</dc:language>
  <cp:lastModifiedBy>jwilson2</cp:lastModifiedBy>
  <dcterms:modified xsi:type="dcterms:W3CDTF">2007-03-08T14:07:24Z</dcterms:modified>
  <cp:revision>18</cp:revision>
  <dc:subject/>
  <dc:title>Awesome Animations</dc:title>
</cp:coreProperties>
</file>