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F04A-5238-473C-9D91-2A606BCC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9FD5-FBC3-4CA5-927D-D5D771EE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16E5-F577-4E79-ABFA-BB97BD634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B244-0BB4-4D9C-AD79-A0AA5329D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F2D6-6BCF-4ABB-89EC-AEB36BF66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B19E-3307-4274-A48F-3BF0AA19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D029-C5A9-4EFB-8B87-9D1D97C7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2BF0-D22E-4CDB-AE16-2F058022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5735-EACB-4250-90E1-53E0BA39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3F0C-F988-4BAE-B92A-C22C2F43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8B91-4A5E-4960-9ECA-C6A6F7D9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7905-E326-4A47-9E96-02543155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C578-5417-4D42-89FC-95FACEA4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6D34-B68B-4957-A0B4-7CF0ADD7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54D5-ABF0-4507-B584-14079A1E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4750-C128-48C6-A8A2-5B5C10C69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12F2-EC9F-4109-A22B-C7EDD977D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4205-2962-435D-9D5C-CCB47E68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1085-54BA-4EE8-96BD-02B3D36E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755F-43D0-4FE1-A594-C174F0BF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E1A8-CDC6-4A55-946E-475EAB53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BF62-A3DE-492B-A247-91091E8C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76DA-60BC-482B-A097-CB4A1DB2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F040-B4BA-4C1B-9DBF-3847C5D0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441D-A8E0-4B29-9A22-009E13964A0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4D97-E1C3-4F74-928D-08D2F13CCA0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roadway"/>
              </a:rPr>
              <a:t>Awesome Animations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roducti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7193160" y="4988160"/>
            <a:ext cx="1630080" cy="1681920"/>
            <a:chOff x="7193160" y="4988160"/>
            <a:chExt cx="1630080" cy="1681920"/>
          </a:xfrm>
        </p:grpSpPr>
        <p:pic>
          <p:nvPicPr>
            <p:cNvPr id="353" name="" descr=""/>
            <p:cNvPicPr/>
            <p:nvPr/>
          </p:nvPicPr>
          <p:blipFill>
            <a:blip r:embed="rId1"/>
            <a:srcRect l="4760" t="6347" r="21428" b="41802"/>
            <a:stretch/>
          </p:blipFill>
          <p:spPr>
            <a:xfrm>
              <a:off x="7391520" y="5440320"/>
              <a:ext cx="1081080" cy="6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 rot="19489800">
              <a:off x="7467480" y="5181120"/>
              <a:ext cx="1081080" cy="1295640"/>
            </a:xfrm>
            <a:prstGeom prst="irregularSeal2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 rot="1091400">
              <a:off x="7429320" y="5980320"/>
              <a:ext cx="785880" cy="24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Down">
                <a:avLst>
                  <a:gd name="adj" fmla="val 458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Wwwww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otating Butterfli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6172200" y="2743200"/>
            <a:ext cx="1584360" cy="16002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1828800" y="2819520"/>
            <a:ext cx="1676520" cy="165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3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56069E-006 C 0.03368 0.12 0.06753 0.24023 0.0191 0.28324 C -0.02934 0.32624 -0.26354 0.22798 -0.29045 0.25804 C -0.31736 0.28809 -0.23281 0.44278 -0.14288 0.46312 C -0.05295 0.48347 0.20382 0.45272 0.24913 0.38058 C 0.29444 0.30844 0.16458 0.09434 0.12865 0.0296 C 0.09271 -0.03514 0.04583 -0.0037 0.03333 -0.00832 C 0.02083 -0.01295 0.05052 0.00046 0.05399 0.00208 E">
                                      <p:cBhvr>
                                        <p:cTn id="15" dur="3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08 -0.52925 C -0.23976 -0.47815 -0.26598 -0.27237 -0.225 -0.21202 C -0.18403 -0.15168 -0.05747 -0.20208 0.00521 -0.16763 C 0.06788 -0.13318 0.14809 -0.07098 0.15121 -0.00486 C 0.15434 0.06127 0.08472 0.18798 0.02413 0.22959 C -0.03646 0.27121 -0.20278 0.21364 -0.21233 0.24439 C -0.22188 0.27514 -0.08907 0.38566 -0.03299 0.41364 C 0.02309 0.44162 0.06545 0.52994 0.12413 0.41156 C 0.18281 0.29318 0.34236 -0.14751 0.31944 -0.29665 C 0.29652 -0.44578 0.07795 -0.44578 -0.01389 -0.48278 C -0.10573 -0.51977 -0.19306 -0.51052 -0.23143 -0.51861 C -0.26979 -0.52671 -0.24184 -0.58035 -0.2408 -0.52925 Z">
                                      <p:cBhvr>
                                        <p:cTn id="19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mage Composer Anima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829480" cy="31622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5791320" y="3733920"/>
            <a:ext cx="2766960" cy="25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low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2743200" cy="416268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3429000" y="685800"/>
            <a:ext cx="2862360" cy="4343400"/>
          </a:xfrm>
          <a:prstGeom prst="rect">
            <a:avLst/>
          </a:prstGeom>
          <a:ln w="0">
            <a:noFill/>
          </a:ln>
        </p:spPr>
      </p:pic>
      <p:pic>
        <p:nvPicPr>
          <p:cNvPr id="365" name="flower animation" descr=""/>
          <p:cNvPicPr/>
          <p:nvPr/>
        </p:nvPicPr>
        <p:blipFill>
          <a:blip r:embed="rId3"/>
          <a:stretch/>
        </p:blipFill>
        <p:spPr>
          <a:xfrm>
            <a:off x="5562720" y="4594320"/>
            <a:ext cx="3187440" cy="20984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352680" y="57913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And BUGS!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imation using Clon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828800" y="25909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4495680" y="3276720"/>
            <a:ext cx="2590920" cy="19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y First Elements Animation 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255276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ements Anima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2019240" cy="20196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5181480" y="32767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AR Paint Brush Too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4343400" y="33526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anks for watching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9" name="snowman animation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33843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9:15:15Z</dcterms:created>
  <dc:creator>jwilson2</dc:creator>
  <dc:description/>
  <dc:language>en-US</dc:language>
  <cp:lastModifiedBy>jwilson2</cp:lastModifiedBy>
  <dcterms:modified xsi:type="dcterms:W3CDTF">2007-03-08T14:07:24Z</dcterms:modified>
  <cp:revision>18</cp:revision>
  <dc:subject/>
  <dc:title>Awesome Animations</dc:title>
</cp:coreProperties>
</file>