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768-C21C-4E2E-B219-F76068B0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B83-4BDA-41AB-86C3-822F6BAC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974-40A3-4655-B72B-5A012A0F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70B-FFB4-4497-BA91-05E218B7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4320-E800-4FF3-BE4D-02F9AF6D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243C-1B82-458D-94C4-3F6F1F76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7A67-6F94-4E93-AF94-3CDEFAF3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A8B5-A60F-4EE0-821C-057A1EE6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ABB3-DACE-4DB4-B1E6-8136C6BE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726E-23D6-4C5F-8518-75FED728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60F7-FC7F-4FF1-8239-76F8F325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9C9-F82B-4B11-9F7F-1107BE30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7D79-6158-47E2-BC67-A17AC3AA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D24C-501B-48A9-AD4B-680F7886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A5B1-BB4B-4F2F-A4FF-F107794C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11EB-3B47-4103-A531-3E2CD7DC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4F9B-E8FD-4BA7-BCC9-CC417BEB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8A2-0344-4E0D-B609-44D7BE6E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AA7-1ABB-4155-847C-0378CB7D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464-4CBE-4D62-8AE5-A8D75981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A96-3BAD-4857-8570-3E6EADFC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FF2-2E20-4B6D-B767-E4C74A3E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10C-EA8C-42E3-BD86-1F91430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F96-3C3C-47D9-B402-4D8E721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34CC-5439-4BA9-8089-0EE9BBE845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9550-A480-47C4-BE3F-7B41EF4BE5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C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u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7d47d"/>
                </a:solidFill>
                <a:latin typeface="Bradley Hand ITC"/>
              </a:rPr>
              <a:t>      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1828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A banana smooth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Wheeeeeeeee……………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046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 cut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2135160"/>
            <a:ext cx="3809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The first sign of spr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ita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www.spastuff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www.supersto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ww.downunderdoodles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952880" y="304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36:00Z</dcterms:created>
  <dc:creator>FPS</dc:creator>
  <dc:description/>
  <dc:language>en-US</dc:language>
  <cp:lastModifiedBy>FPS</cp:lastModifiedBy>
  <dcterms:modified xsi:type="dcterms:W3CDTF">2009-03-11T17:03:28Z</dcterms:modified>
  <cp:revision>4</cp:revision>
  <dc:subject/>
  <dc:title> Custom      Animations</dc:title>
</cp:coreProperties>
</file>