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F2B-A8CE-4B54-870C-F5D33EFA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6C9-5171-4BA5-821A-48DD48E9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CA7-1A44-4004-BB81-EDE926F7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48F-A995-4E44-BC3B-F94FF59F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6D26-A7D9-4C32-9B44-373B75D2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3801-E99F-4BD5-B374-BD91C6AC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79EE-F628-4757-AEA6-02172B25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6D1A-0D9C-492B-B8E4-C08964FF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B935-57EF-4777-AB7F-C3BB9ADD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F182-041B-4B8E-95B7-05285CF0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8DA2-1BE7-44CA-B562-49C93A3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A60-EEDB-4373-A37C-217CA47A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5AF7-EB16-4B11-9131-FC904F4A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4A5C-AFA7-4CC1-956B-EF675AA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804E-139C-47F1-967A-C64A0437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6561-3C29-419B-90AA-BB6A3309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E23C-B35D-45E9-9A63-A6A6D311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A2A-D5BB-4AC3-8BF6-79DFC3E0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2E3-3BC8-40B2-9F12-83E5062F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B45-0E03-492C-89C5-FF987B53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5E9-8B8E-4FCB-BE07-AA94D64E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209-6F75-4927-8FAE-B63A08F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554-6407-48D1-8B0A-9AA56B25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435-1EA5-47FB-A64F-BFE078A6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6E71-EC28-4ADB-80D2-7CAB118ADA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D228-A44C-411D-9B29-EB679490FE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C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u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7d47d"/>
                </a:solidFill>
                <a:latin typeface="Bradley Hand ITC"/>
              </a:rPr>
              <a:t>      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6666ff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m</a:t>
            </a:r>
            <a:r>
              <a:rPr b="1" lang="en-US" sz="6600" spc="-1" strike="noStrike">
                <a:solidFill>
                  <a:srgbClr val="fc2906"/>
                </a:solidFill>
                <a:latin typeface="Bradley Hand ITC"/>
              </a:rPr>
              <a:t>a</a:t>
            </a:r>
            <a:r>
              <a:rPr b="1" lang="en-US" sz="6600" spc="-1" strike="noStrike">
                <a:solidFill>
                  <a:srgbClr val="800080"/>
                </a:solidFill>
                <a:latin typeface="Bradley Hand ITC"/>
              </a:rPr>
              <a:t>t</a:t>
            </a:r>
            <a:r>
              <a:rPr b="1" lang="en-US" sz="6600" spc="-1" strike="noStrike">
                <a:solidFill>
                  <a:srgbClr val="cc3399"/>
                </a:solidFill>
                <a:latin typeface="Bradley Hand ITC"/>
              </a:rPr>
              <a:t>i</a:t>
            </a:r>
            <a:r>
              <a:rPr b="1" lang="en-US" sz="6600" spc="-1" strike="noStrike">
                <a:solidFill>
                  <a:srgbClr val="ff6600"/>
                </a:solidFill>
                <a:latin typeface="Bradley Hand ITC"/>
              </a:rPr>
              <a:t>o</a:t>
            </a:r>
            <a:r>
              <a:rPr b="1" lang="en-US" sz="6600" spc="-1" strike="noStrike">
                <a:solidFill>
                  <a:srgbClr val="ff9999"/>
                </a:solidFill>
                <a:latin typeface="Bradley Hand ITC"/>
              </a:rPr>
              <a:t>n</a:t>
            </a:r>
            <a:r>
              <a:rPr b="1" lang="en-US" sz="6600" spc="-1" strike="noStrike">
                <a:solidFill>
                  <a:srgbClr val="99cc00"/>
                </a:solidFill>
                <a:latin typeface="Bradley Hand ITC"/>
              </a:rPr>
              <a:t>s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18288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A banana smoothi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Wheeeeeeeee………………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0466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o cute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2135160"/>
            <a:ext cx="38098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The first sign of spr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ff9999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c2906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ita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www.spastuff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www.supersto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ww.downunderdoodles.c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952880" y="304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676520" y="35053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36:00Z</dcterms:created>
  <dc:creator>FPS</dc:creator>
  <dc:description/>
  <dc:language>en-US</dc:language>
  <cp:lastModifiedBy>FPS</cp:lastModifiedBy>
  <dcterms:modified xsi:type="dcterms:W3CDTF">2009-03-11T17:03:28Z</dcterms:modified>
  <cp:revision>4</cp:revision>
  <dc:subject/>
  <dc:title> Custom      Animations</dc:title>
</cp:coreProperties>
</file>