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821-1484-4678-AEE8-81239924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404-28D2-434E-9799-A2F8178D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F1E-0D7A-4F42-8F78-2AAC66AE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FCB-022D-42CE-962D-E05167E8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AA4-6DB6-49F0-A67F-FBA13FDA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392-405E-4AA1-8207-DA91316E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C12-0D4F-41E0-BE24-3247E41C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A77-C514-48B3-921A-EAB961BD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F0C-17F0-451D-A5BC-11A5820C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CA50-F077-4A58-9180-22BF4685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90A-4C2B-472A-A32E-12EB57F9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AF1-4DBA-463E-9956-42B52EF8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A00D-ED14-4E9D-B4A8-A0134FED9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n Adaj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2514600"/>
            <a:ext cx="13906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390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90600" y="184788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Cra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0600" y="1442880"/>
            <a:ext cx="47628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-R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4844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uba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7:05:27Z</dcterms:created>
  <dc:creator>FPS</dc:creator>
  <dc:description/>
  <dc:language>en-US</dc:language>
  <cp:lastModifiedBy>FPS</cp:lastModifiedBy>
  <dcterms:modified xsi:type="dcterms:W3CDTF">2009-03-11T17:20:50Z</dcterms:modified>
  <cp:revision>10</cp:revision>
  <dc:subject/>
  <dc:title>My Animations</dc:title>
</cp:coreProperties>
</file>