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4DB3-6366-4ED8-B20C-E3ABFB62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135-75B0-41F2-B10C-CBBD9165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FC7-8F65-4B03-B198-57AEB16C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DC0-D8FC-4356-8D27-BF18625F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3F1-1BAB-482D-887C-23F5DC56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AD4-6261-4C68-8310-9AAA01A3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3DD-4D33-4D81-B8FE-CA566D8C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CE7-32BA-47FA-AD6A-1E54A945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315-91D0-4321-B9F6-84AB3FD8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861-2BB4-4734-8FA8-8DCB15E7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FEE-672A-458C-899E-B8DE7FED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D0D-3262-4A42-81B2-65F11A58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F931-2387-4971-8CAD-BDF8FDB03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n Adaj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39068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390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0600" y="1847880"/>
            <a:ext cx="4762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Cra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0600" y="1442880"/>
            <a:ext cx="476280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-R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48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uba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05:27Z</dcterms:created>
  <dc:creator>FPS</dc:creator>
  <dc:description/>
  <dc:language>en-US</dc:language>
  <cp:lastModifiedBy>FPS</cp:lastModifiedBy>
  <dcterms:modified xsi:type="dcterms:W3CDTF">2009-03-11T17:20:50Z</dcterms:modified>
  <cp:revision>10</cp:revision>
  <dc:subject/>
  <dc:title>My Animations</dc:title>
</cp:coreProperties>
</file>