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CBD-B093-482D-8BD7-9DE55188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A83-53B7-4EE0-8E76-8D698648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47F-5D5A-4E8C-A8DA-2278F572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7EA-2D44-42D6-A02B-8C572F6E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2CF-DD88-453F-B4DD-6AB9750F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954-13C0-460B-87E3-35E5D8B5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063-ECAC-42DA-B239-4AFAB91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4A5-FC75-4CC6-80AB-F6DE600C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6B4-A3F3-46CD-A545-9044FEC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9D2-F557-4BAA-A6A3-9983FF8B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A63-8C9E-4882-8EC7-DC95545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040-E375-4E9B-A76F-7614A22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6663-85FE-4453-97CE-A2C2D11A6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 Adaj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442880"/>
            <a:ext cx="47628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R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4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b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27Z</dcterms:created>
  <dc:creator>FPS</dc:creator>
  <dc:description/>
  <dc:language>en-US</dc:language>
  <cp:lastModifiedBy>FPS</cp:lastModifiedBy>
  <dcterms:modified xsi:type="dcterms:W3CDTF">2009-03-11T17:20:50Z</dcterms:modified>
  <cp:revision>10</cp:revision>
  <dc:subject/>
  <dc:title>My Animations</dc:title>
</cp:coreProperties>
</file>