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A76-B8CA-4FB9-B60E-7E72AF19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3E6-6C55-4FD1-B714-9C88F0F6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135-BF63-4D03-8141-F91C4902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731-A210-4896-8A2A-C2BDF228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291-BD61-4D17-8970-D588923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05C-D08B-471A-951C-7FEBC04A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1F4-8C05-459F-AF91-D49E71B2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D70-D087-4E49-8E87-F31D58EB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1E8-3124-4F26-AC2B-4D16B9C6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E4F-94E8-47F3-B78A-4AC1B9E0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1F6-7F25-4BBB-9CC5-79552FED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88E-89B8-423D-A703-6D1C4BFA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A732-F776-4229-9D85-FD528E8B6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 Adaj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390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442880"/>
            <a:ext cx="47628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-R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4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uba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05:27Z</dcterms:created>
  <dc:creator>FPS</dc:creator>
  <dc:description/>
  <dc:language>en-US</dc:language>
  <cp:lastModifiedBy>FPS</cp:lastModifiedBy>
  <dcterms:modified xsi:type="dcterms:W3CDTF">2009-03-11T17:20:50Z</dcterms:modified>
  <cp:revision>10</cp:revision>
  <dc:subject/>
  <dc:title>My Animations</dc:title>
</cp:coreProperties>
</file>