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249-81E8-4886-BBE4-1F76B6BA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5EF-3400-4DAC-9A8B-3AA57961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64A-01C6-4374-95AA-1D8DA209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66D-7268-4AC0-8434-4540A37C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3F8-CFA3-4989-AD27-D39E3242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7F7-BFFF-4539-A468-864A7DF4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4AF-59CC-438D-ACD8-0BC888AD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347-B542-4210-AFEF-ACF92568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51A-F5E3-4D00-B795-62FC0409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D8C-22B3-4199-8C46-858EAF0F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A64-CD83-4985-8C9D-5B3CA6F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11F-5D13-4C14-B39C-2AEB7C24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D927-96E4-4DE0-B8CC-08A04A7C9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n Adaj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10280" y="2514600"/>
            <a:ext cx="139068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390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90600" y="1847880"/>
            <a:ext cx="4762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Cra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0600" y="1442880"/>
            <a:ext cx="476280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-R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484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uba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7:05:27Z</dcterms:created>
  <dc:creator>FPS</dc:creator>
  <dc:description/>
  <dc:language>en-US</dc:language>
  <cp:lastModifiedBy>FPS</cp:lastModifiedBy>
  <dcterms:modified xsi:type="dcterms:W3CDTF">2009-03-11T17:20:50Z</dcterms:modified>
  <cp:revision>10</cp:revision>
  <dc:subject/>
  <dc:title>My Animations</dc:title>
</cp:coreProperties>
</file>