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9924-8339-484E-9F1C-7068C5E5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F01E-B605-4B1E-AD31-F744BAAD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07D5-1145-4819-AB81-144B03BE7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55BA-D1E0-48B4-B815-DA325A86D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2265-AD52-4FC1-969F-AF3ECA10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C6BC-E66D-4D37-9089-4D1C3053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1667-3D41-484C-9FAE-6B208F3B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C90E-D09B-409A-A6CE-0ACE7DD3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0CC1-C38D-493B-A6C3-4C522A14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8DC8-4E3E-4AAA-B91F-B6BF51F3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8EEC-DE51-4D0B-9C4F-BECAA229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A2D5-AC1A-4646-A012-29B035CD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84A3-281B-4163-92C4-DB132BE62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Dan Adaj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010280" y="2514600"/>
            <a:ext cx="1390680" cy="1905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5800" y="2514600"/>
            <a:ext cx="1390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t D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496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or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90600" y="1847880"/>
            <a:ext cx="47628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ton’s Crad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90600" y="1442880"/>
            <a:ext cx="476280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-R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704844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uba 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ke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7628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17:05:27Z</dcterms:created>
  <dc:creator>FPS</dc:creator>
  <dc:description/>
  <dc:language>en-US</dc:language>
  <cp:lastModifiedBy>FPS</cp:lastModifiedBy>
  <dcterms:modified xsi:type="dcterms:W3CDTF">2009-03-11T17:20:50Z</dcterms:modified>
  <cp:revision>10</cp:revision>
  <dc:subject/>
  <dc:title>My Animations</dc:title>
</cp:coreProperties>
</file>