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569-830E-495C-A9E3-0C8BF9BB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3816-9ADF-47E6-8270-69842357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410-27BB-46D9-895B-C1814723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6CE-A847-4385-B6AE-FD97C057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4BF-8DC4-4E6B-A283-9D894C1A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875-31E5-4DF0-9D0E-FA4D69F1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413-1E40-4D09-A36F-775D2498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BD2-8DF6-474B-8498-50E02C29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E73-1B37-467E-9179-E19E2EB8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A69-989D-4F58-9F10-4097F4BD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7C0-8C94-44A1-8B8A-FAC38950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F2C-C535-44B6-A68F-985FF723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004B-A8C6-4170-818A-6BA05F153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oel Villal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1160200">
            <a:off x="1371240" y="1523520"/>
            <a:ext cx="7010280" cy="266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oels Anim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56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590400"/>
            <a:ext cx="6400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762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11:22Z</dcterms:created>
  <dc:creator>FPS</dc:creator>
  <dc:description/>
  <dc:language>en-US</dc:language>
  <cp:lastModifiedBy>FPS</cp:lastModifiedBy>
  <dcterms:modified xsi:type="dcterms:W3CDTF">2009-05-20T15:36:53Z</dcterms:modified>
  <cp:revision>3</cp:revision>
  <dc:subject/>
  <dc:title>Joels Animations</dc:title>
</cp:coreProperties>
</file>