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C48-8001-4BBB-940F-B5CBEBAA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E07-6426-483C-87EB-E037969F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D6D-B006-44E6-A615-5898CF11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B74-0A76-4527-AAE6-6BDC182E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9D4-2229-4A99-9C4E-03019DFB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44B-BB65-4C7E-8F96-653C9FDA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06C-842D-4DDC-AA86-F2D890DC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BF2-8F4C-40E7-837C-A013BACC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027-3519-4455-91A0-5A1B7601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31F-7B7B-451E-907F-2605DEB7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369-7778-4A87-821C-A0C13020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034-3C90-44B4-946B-AC7BB002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80D2-1694-4C99-A1AC-69DE83CCF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oel Villa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1160200">
            <a:off x="1371240" y="1523520"/>
            <a:ext cx="7010280" cy="26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oels Anim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56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590400"/>
            <a:ext cx="6400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1:22Z</dcterms:created>
  <dc:creator>FPS</dc:creator>
  <dc:description/>
  <dc:language>en-US</dc:language>
  <cp:lastModifiedBy>FPS</cp:lastModifiedBy>
  <dcterms:modified xsi:type="dcterms:W3CDTF">2009-05-20T15:36:53Z</dcterms:modified>
  <cp:revision>3</cp:revision>
  <dc:subject/>
  <dc:title>Joels Animations</dc:title>
</cp:coreProperties>
</file>