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8AF-A93D-4F00-8095-83383A0B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760-465D-4343-8143-6973D09B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CBD-CAFE-49CC-A2BF-E7D6DDA0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39A-32A1-4766-A558-F76B7F3F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2D3-12B1-4133-9260-561C1A9B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221-150A-4FAD-9579-57F8C1C4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51C-9822-4C11-ABF2-72860D6E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7ED-CF3E-4194-8591-2A3F6415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575-966F-4615-A46D-DFFBFE9C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546-B80C-4BB1-9E28-743D35F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2DF-627F-4010-A14F-2A1AEF44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27C-3AF9-4837-833E-EA944CC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95FD-81DE-4F97-849E-4C00F3728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oel Vill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160200">
            <a:off x="1371240" y="1523520"/>
            <a:ext cx="7010280" cy="26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oels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590400"/>
            <a:ext cx="6400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1:22Z</dcterms:created>
  <dc:creator>FPS</dc:creator>
  <dc:description/>
  <dc:language>en-US</dc:language>
  <cp:lastModifiedBy>FPS</cp:lastModifiedBy>
  <dcterms:modified xsi:type="dcterms:W3CDTF">2009-05-20T15:36:53Z</dcterms:modified>
  <cp:revision>3</cp:revision>
  <dc:subject/>
  <dc:title>Joels Animations</dc:title>
</cp:coreProperties>
</file>