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4FD-F2C3-465F-8348-AEC8EE21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825-06E4-4745-86FD-A0BD2F5C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30C-B421-415A-B522-8B8363CC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135C-2DD0-43FF-8A13-F90146AF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BFA0-DE7B-4A48-A941-FD220D34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912-E2ED-499E-8188-A713C538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D0E-B2D8-4F21-8F94-33A11991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6FE-5E78-4FC9-81A7-1B2B4250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866-4473-401B-B1CB-24885BC6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DAB-2FC6-4945-91BB-23737975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961-F29C-4B07-B481-EC2F9689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CC9-1FB7-42F3-9C32-EC500E39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2E4C-8EBF-4150-8E4F-81E442EB4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oel Villal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1160200">
            <a:off x="1371240" y="1523520"/>
            <a:ext cx="7010280" cy="266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oels Anim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56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590400"/>
            <a:ext cx="6400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762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11:22Z</dcterms:created>
  <dc:creator>FPS</dc:creator>
  <dc:description/>
  <dc:language>en-US</dc:language>
  <cp:lastModifiedBy>FPS</cp:lastModifiedBy>
  <dcterms:modified xsi:type="dcterms:W3CDTF">2009-05-20T15:36:53Z</dcterms:modified>
  <cp:revision>3</cp:revision>
  <dc:subject/>
  <dc:title>Joels Animations</dc:title>
</cp:coreProperties>
</file>