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DCE-DEA7-4749-91F3-39724FD8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01D-4DB8-4762-8EE8-8C247698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6A2-A67A-4904-8233-48A5C900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95E-DE93-4F51-9A72-241E8B91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FAB-9F12-41E4-B3EE-2BF37769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365-8A3C-4029-AF96-AEA00516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050-077F-4E65-8A8E-BD2637B7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5E5-7B87-419A-8B8A-943F6DFA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238-5083-485B-BE58-FDFF1B9A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F20-C57D-4629-B32E-6058776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69F-D93C-47BE-9046-E7BF37C1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110-93F2-4EDC-9C64-F7F35E1A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E6BF-1C89-4CEA-8141-69F4FF7C7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oel Villa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1160200">
            <a:off x="1371240" y="1523520"/>
            <a:ext cx="7010280" cy="26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oels Anim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56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590400"/>
            <a:ext cx="6400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1:22Z</dcterms:created>
  <dc:creator>FPS</dc:creator>
  <dc:description/>
  <dc:language>en-US</dc:language>
  <cp:lastModifiedBy>FPS</cp:lastModifiedBy>
  <dcterms:modified xsi:type="dcterms:W3CDTF">2009-05-20T15:36:53Z</dcterms:modified>
  <cp:revision>3</cp:revision>
  <dc:subject/>
  <dc:title>Joels Animations</dc:title>
</cp:coreProperties>
</file>