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8C8-6DFA-4CA4-87FE-0BBB5CB0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99D-7560-446B-BD0B-1D536302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F91-4F73-418A-A9B2-23F7D57B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980-B7E1-4F45-A6E5-00EAE620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A90-16D3-499B-A0C2-EE9EF583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DD4-41CD-4FB2-9ED7-07E6C9B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37B6-AC82-4489-8E34-8E52B80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29F4-0D74-48FE-891B-CFA55E9D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9824-BCF1-434B-B4C2-733F965F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EE3C-D57D-43A8-9D63-961C01D9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C2C4-6436-4903-A4A3-E0CA042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658-1CD8-4F9B-881F-4C4557DD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D8FE-1BEB-41BD-8DB7-C1A21D6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03E-6018-43AC-ADB5-CEA32E62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5DD0-8DAF-4089-8190-6EDBB306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E377-F3A9-4CC2-9A35-C8680C7D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D414-4FDA-4A24-9AC5-3759E560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3CB-B27E-4FA8-89B4-60B2262A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33D-AD75-48B7-ABF4-9C5AB9C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886-546C-442A-9822-01A9EA3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DCE-FD50-487C-8948-D68C87D9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1D7-8819-45A3-AE4A-9E1FA5B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E9B-2E3F-4135-B73E-18CA833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76A-B7CD-4549-B90A-115D1A12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D8D-C6CA-48CB-96AC-4F19DDE50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92C4-F3D4-4AFA-BDEA-27FED73E1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arls Anim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ovy Disco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nja Turtle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ke ba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 for wat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8:06Z</dcterms:created>
  <dc:creator>FPS</dc:creator>
  <dc:description/>
  <dc:language>en-US</dc:language>
  <cp:lastModifiedBy>FPS</cp:lastModifiedBy>
  <dcterms:modified xsi:type="dcterms:W3CDTF">2009-05-20T15:11:51Z</dcterms:modified>
  <cp:revision>1</cp:revision>
  <dc:subject/>
  <dc:title>Karls Animations</dc:title>
</cp:coreProperties>
</file>