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FCB-5405-4E11-BDC8-EC45C0D4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46F-3612-4973-BC20-8B9CC35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D0C-AC74-4D78-A39A-8F13E8AF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B15-237C-4A78-88F3-10250EFA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B8D4-AA0C-45E1-A9F8-8FCF9634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6073-5E27-41D7-B118-04C051DB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AFD3-A506-4A52-9F81-137DA635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6842-F595-4872-ACF8-B5C319B5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D8E-7D54-4227-BD02-998E12BD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5522-CF18-4138-A32C-D4D274C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CB4D-DAB0-4F18-A878-AE71F4B9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617-7CCD-4863-9DED-75316948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16AC-ABB7-4AEE-8A5A-F21CAA58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0255-A7CD-4D31-AA87-25F146B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8163-00AB-4003-BC63-8A9CCF20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2EEB-C2F2-4D45-9366-52903014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F2D1-4628-4EE2-8FC8-93F0AFEC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6B6-CCE3-4C5B-BD2B-C025A857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830-88E6-41F7-BE9E-63224B15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CAE-EE7C-4132-BC06-2A70BED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149-3D9E-4472-B161-3E337153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FD3-2C22-4FFF-9C64-446FB15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4E8-4D6A-4223-92A8-2F3FD9D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D19-E101-465F-9A8C-C1E265D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F588-CACF-4E2A-BAC0-C65C917D4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64F3-DAC4-4E4C-BF99-4D2CD6434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arls Anim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ovy Disco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nja Turtle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ke ba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 for wat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8:06Z</dcterms:created>
  <dc:creator>FPS</dc:creator>
  <dc:description/>
  <dc:language>en-US</dc:language>
  <cp:lastModifiedBy>FPS</cp:lastModifiedBy>
  <dcterms:modified xsi:type="dcterms:W3CDTF">2009-05-20T15:11:51Z</dcterms:modified>
  <cp:revision>1</cp:revision>
  <dc:subject/>
  <dc:title>Karls Animations</dc:title>
</cp:coreProperties>
</file>