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FEE-10AA-403E-A48F-8EF97F36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AF2-C686-4C01-B4A3-A7CEA541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FDA-D958-4C45-8985-2FA5B560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7A7-F694-43B0-8E7A-C0DF3F05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6E84-A646-4051-BBC3-4B675DA2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3A1A-394C-4482-9C75-6DBB3300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0384-F767-40E7-A99D-BD236EE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0595-95C5-4962-BBA7-C82EFA10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B0EC-805B-468A-AFB5-4D7A2987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AD85-D1B0-4D45-839C-F1EC797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845F-BB00-46BD-A7F6-5DE3ED4E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6E2-268A-40A5-86DA-6CA9D1F5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E412-EE18-4D52-B5CA-B48FE6F7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3D52-4F7B-4F4A-884B-0A8B6112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04D9-4E89-415A-AFBB-68CAC3B2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38D4-0D0E-40D4-BDA8-E7CD4D51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CC4B-A77A-4564-8A12-D891B3AF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B3A-C743-40F6-A097-FDD8C9DC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716-0909-4AB0-B01E-F4BEF548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B4F-2B34-444A-9CB0-EB77E82E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0E1-F38C-4ACE-BBE9-5E6CE87B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78D-B6AA-462D-B201-3563294F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1D0-CB49-4520-BA1A-4BFB2EE8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069-DD3C-4A42-8758-5A5D11A5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5AEE-BCDB-47BA-BA2C-EFEE6BE4C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1D65-41BE-442B-8D70-3D76BA670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Karls Anim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roovy Disco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nja Turtle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ke ba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RT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ank you for watch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08:06Z</dcterms:created>
  <dc:creator>FPS</dc:creator>
  <dc:description/>
  <dc:language>en-US</dc:language>
  <cp:lastModifiedBy>FPS</cp:lastModifiedBy>
  <dcterms:modified xsi:type="dcterms:W3CDTF">2009-05-20T15:11:51Z</dcterms:modified>
  <cp:revision>1</cp:revision>
  <dc:subject/>
  <dc:title>Karls Animations</dc:title>
</cp:coreProperties>
</file>