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3C9C-2E43-4762-A287-76FA411CE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E0F4-9641-49A6-AD51-0C0F798C3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D55A-A495-4C92-9A8E-82F50970A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16C5-2E03-4A1E-90F4-0AAC07000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CAEB1-75A2-4FC5-B42A-E3F7F966C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F737E-354A-4D95-B70D-96A63CB72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21806-9707-489D-8B37-0EFC72878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4FA25-7B76-4AB7-A8C1-AC3EF2E04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CC000-5168-485F-BA50-03677B621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57537-9872-4725-8042-33C29B738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E63A7-F1B0-418A-A440-047B0D11D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0310-FD5D-4F68-91E3-93A3C4A01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D71AD-6A39-492A-B58A-D28B92A0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58D8C-8C49-4CE3-9758-3DBEBA6FE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A7439-3027-41CD-A59E-02BC6F53F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1C376-3C4E-4556-A23E-AB27637E8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AEA4D-E5DC-47A6-ADC0-403D3A495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6BF0-278D-4E2E-A700-DCDD47BB2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1625-B3F9-4832-B35F-BD296341D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F9C8-41E5-4522-B255-868879ADE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B1E4-5175-4894-B367-9C4640417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AA87-55F5-4298-AE5B-277B0A5F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096E-E6D3-42A2-A986-F468CC7D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3F09-BAEC-4A41-AEC0-99014AFCE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954BE-7A72-4506-9F66-793D323FC6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F6B2C-BB66-457A-95CA-20B856F145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Karls Animations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te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Groovy Disco Animati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619440" y="247644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Ninja Turtle animati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619440" y="247644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Poke battl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619440" y="247644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PORTAL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619440" y="247644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hank you for watching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15:08:06Z</dcterms:created>
  <dc:creator>FPS</dc:creator>
  <dc:description/>
  <dc:language>en-US</dc:language>
  <cp:lastModifiedBy>FPS</cp:lastModifiedBy>
  <dcterms:modified xsi:type="dcterms:W3CDTF">2009-05-20T15:11:51Z</dcterms:modified>
  <cp:revision>1</cp:revision>
  <dc:subject/>
  <dc:title>Karls Animations</dc:title>
</cp:coreProperties>
</file>