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6F2-AF16-44C8-AAA7-73CAC396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7FA-E261-49EB-ACBE-801696EC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F8D-9130-47D1-9011-5E871800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E8E-C83B-4E6E-B8A9-ECA13C86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F11D-FB90-47AA-BBF6-407F6627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FC60-7124-461F-B903-0CCBAD60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7D89-F65C-44B7-8061-38E670D1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7CFB-027A-4F32-ACAF-5163CB32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818B-509F-4E75-A403-4A368063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ABAE-3788-4DD3-96CE-61A65EF1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3E65-FA26-4AA2-8FF2-966F6B32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170-CEA3-4707-81C5-C1A35E98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910C-0033-485B-A5BF-6569B783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226F-9007-4A82-AEE0-8173941F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E9C9-3422-4B63-910C-B740EF4E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2205-456C-4DA1-B066-2F203BBF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7AE7-7E2D-4265-A1C9-CC42AD11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569-BD8B-446A-A496-9336D33F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7BF-15D4-409F-93C3-6D33356D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A9E-E3AB-4A44-94E0-357B00DC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861-4796-4C55-B0C1-5B81FD90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E69-89E8-42CE-8670-4595F1F1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99D-EE54-44CF-8999-5437C107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5E3-F58F-4DD0-A68F-94788F7E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30F0-1165-4159-9765-6466D7254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5417-E6AE-4C14-B420-6DBD5B68D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Karls Anim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roovy Disco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nja Turtle anim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ke ba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RT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19440" y="24764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ank you for watch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08:06Z</dcterms:created>
  <dc:creator>FPS</dc:creator>
  <dc:description/>
  <dc:language>en-US</dc:language>
  <cp:lastModifiedBy>FPS</cp:lastModifiedBy>
  <dcterms:modified xsi:type="dcterms:W3CDTF">2009-05-20T15:11:51Z</dcterms:modified>
  <cp:revision>1</cp:revision>
  <dc:subject/>
  <dc:title>Karls Animations</dc:title>
</cp:coreProperties>
</file>