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4A2-0E01-4A61-A6F8-A5ACE664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144-09B8-470D-A020-67BD608A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5A7-EB81-49DC-AD59-A58EF738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7E4-673E-41BE-967C-6916CF99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79DE-F1E0-4E68-B366-5CA63492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FF89-9843-425B-9FC6-FDA00F29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595B-9922-4EA1-9EA2-1DBE9248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715D-3DEF-469D-B62C-9D27ABA6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E572-0C17-4887-802F-951FBD22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D50D-666D-428E-AAFB-9540B07C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6C54-4ECA-4C12-ADFB-FA01E0B6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4CF-744F-4343-A385-9D68A167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99FA-B8AC-4549-A9F5-7A00680F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8AA5-72C0-4945-B80B-035F0B69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7887-0485-408A-9E29-1980748B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06F3-8A51-4820-85E0-6E0AE721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4B80-D26F-4134-9C88-20F3873A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C2E-0AA7-4685-8BD7-6A9F104D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A33-DE45-44D8-91D1-20CEFA78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4F5-92F8-427B-BBBD-5E6F3DFE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A1B-F69F-4334-A78E-09F331A1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8DE-69C4-417F-B1AC-796AAA5F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4DA-121C-404D-95D9-2C658A85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DE0-A9DA-4B51-97CD-E38DA860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DE61-EC25-49E9-A6BC-35D859D5C9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0DF4-B494-4E96-A5DD-08CBF9BC7B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y Animati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Jowena Che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t’s Raining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62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tumn is com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6756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ink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ght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8:34:26Z</dcterms:created>
  <dc:creator>FPS</dc:creator>
  <dc:description/>
  <dc:language>en-US</dc:language>
  <cp:lastModifiedBy>FPS</cp:lastModifiedBy>
  <dcterms:modified xsi:type="dcterms:W3CDTF">2009-05-28T18:40:56Z</dcterms:modified>
  <cp:revision>1</cp:revision>
  <dc:subject/>
  <dc:title>My Animations</dc:title>
</cp:coreProperties>
</file>