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839-13C3-46E5-80B8-AE0CA2B7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BE08-7C06-4524-8E3D-B01B1E63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CD1-D573-4E5B-AB1A-E8420203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B48-C8EF-4638-AC5D-CFB454B0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2F2C-D93A-493D-B240-4305B5EB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6FD0-E4D3-44F2-B2F1-89BD3B0A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6966-D80D-4F14-AF0E-5EDA18A6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7602-3FB0-4927-AD59-0385B762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8062-BF1D-4DE5-BB0E-A5039ABD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0DC7-3B5A-4183-807B-47D26065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84F1-35F8-4DE1-9FFC-4E0CB816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FA5-13BE-4272-B907-78FFBA65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A2DD-7172-4A08-B68E-71558FDD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9C27-5E80-45AC-A7CC-C58F4F0F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D61D-CD05-4F71-AB04-7C149E2A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7BAB-0B70-4B9D-9C96-8A386913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AE9F-BF13-4F85-A961-613F24A2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1CC-F9A6-4B42-A901-D0905CBD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7EC-9A32-4554-8602-7AE5E2A8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F22C-848B-4DA5-B102-2867734A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6DB-E9B8-4CAF-A3C1-A7A4D1DC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5F7F-1110-4438-B814-FFC6DA0D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DA42-07EC-4CBF-A7A0-63B93BD7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9947-B26F-4C6B-8026-5CC234D3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DA59-66C1-414F-85B9-31A9CD2165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B356-AD24-4166-A154-2674CAD954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y Animati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y Jowena Che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t’s Raining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62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utumn is com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66756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ink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68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ight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8:34:26Z</dcterms:created>
  <dc:creator>FPS</dc:creator>
  <dc:description/>
  <dc:language>en-US</dc:language>
  <cp:lastModifiedBy>FPS</cp:lastModifiedBy>
  <dcterms:modified xsi:type="dcterms:W3CDTF">2009-05-28T18:40:56Z</dcterms:modified>
  <cp:revision>1</cp:revision>
  <dc:subject/>
  <dc:title>My Animations</dc:title>
</cp:coreProperties>
</file>