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2D9-3335-421D-B25F-89892EFD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238B-BBE2-4F7A-BC12-80A92547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0CF-CB88-42B8-A53A-DA912E86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A3A7-1043-4579-B20D-E20A7D34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01B9-584B-48A8-912E-E3DF6A8E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AD04-F4F7-4365-AE70-6A4E6D45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F75F-6E09-477A-982B-E6C37222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1E4A-72DD-4664-81F3-3026BF33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2EEE-A1A1-4918-B66D-FD7A6813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9619-F101-4A35-8DEA-52B4FA22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6E18-1B98-4280-8FEF-90CFFE7B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F75-BD1F-4FF3-B26D-6D7BD75E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0BCD-F2B4-4C88-A3FE-1AE68AAA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E9DB-CF70-4181-AC00-0DBF285D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1436-BEC5-44E3-8432-1B1E2200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A9A5-DE12-4322-BB12-1FA89B6C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7D5A-5A04-4482-8792-99D0FC82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1E0-7036-4204-8037-F3ACC7B3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B33-0B45-4464-AF1F-5B082951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2AA8-FB6C-4A62-B3E0-90BB14E1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0840-5FC2-4557-BA2F-84B26332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DA1-1C31-473B-B0A9-81447CE0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0AC-A560-4E9E-A5D4-1A5D503F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017-8A8E-4EC4-9F18-97C72C10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D811-517F-42CE-86F2-95C58CC92A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5498-0910-42AE-A147-35A1D770D6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y Animation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y Jowena Che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t’s Raining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627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utumn is com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66756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ink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68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ight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8:34:26Z</dcterms:created>
  <dc:creator>FPS</dc:creator>
  <dc:description/>
  <dc:language>en-US</dc:language>
  <cp:lastModifiedBy>FPS</cp:lastModifiedBy>
  <dcterms:modified xsi:type="dcterms:W3CDTF">2009-05-28T18:40:56Z</dcterms:modified>
  <cp:revision>1</cp:revision>
  <dc:subject/>
  <dc:title>My Animations</dc:title>
</cp:coreProperties>
</file>