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5FB-5350-4046-802B-1E2CC6BD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8C0-B816-445E-A077-9E78B3DE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E10-C138-4698-B74F-D93DD9BA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C9C-B477-4F58-BC3D-F654B291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CAC6-24E9-43FC-8EEA-1A3A126E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338A-B575-45E1-9885-9CDDF948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659D-5E64-4010-8D25-8E4F308C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1E18-D591-44E0-84F7-8CEB0596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E4B2-A17E-4FA5-989E-C6D0640E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E8A7-61A2-4ECE-A030-60E56DA5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A754-12A7-4DC5-A7B6-8DC43237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C14-B05F-444A-B6ED-F1C0158F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0F9B-E9DE-4488-A0AC-4E69D3D3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0233-756D-40DF-AE84-21F30157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FBA9-56D5-4D82-B246-0127738A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ABF2-F797-41A9-94E4-95772578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9097-CF14-4AC1-8D4B-5A1CC9B9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CEC-7B33-4D8A-A4C2-A3D140E0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7FD-C5EF-4DA9-AEEB-A07CBFD2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DA7-6D10-40B8-8AED-2B8D819E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B0A-8F30-4658-A7F4-9133DADA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34F-64BC-4802-A6DA-A057A825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E5F-E07F-41B7-A07E-79549490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9EC-B02C-4DF1-8D6D-1653C96F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606E-E16D-4203-B5A8-FEEAF2AD57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3EFD-C664-43E7-8681-B8A1C901E3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y Animati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Jowena Che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t’s Raining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62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tumn is com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6756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ink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ght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8:34:26Z</dcterms:created>
  <dc:creator>FPS</dc:creator>
  <dc:description/>
  <dc:language>en-US</dc:language>
  <cp:lastModifiedBy>FPS</cp:lastModifiedBy>
  <dcterms:modified xsi:type="dcterms:W3CDTF">2009-05-28T18:40:56Z</dcterms:modified>
  <cp:revision>1</cp:revision>
  <dc:subject/>
  <dc:title>My Animations</dc:title>
</cp:coreProperties>
</file>