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A31A-D7BE-4116-9DA3-C1748198F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ADCC-8A91-4F36-BF1E-8512A67FB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722D-2DC0-4C01-BD2C-0F4DD1B0B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FA6F-F846-4691-BA7F-191C125DA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2F8BC-27A1-4154-A4BB-D186E145A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BFD66-5743-48E0-80A9-02057A824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CF1DD-2502-44FA-B134-88ECB79FE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27BBE-19DC-4FB0-955D-E3634BDB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2156F-7D06-41E1-8580-735A6B47D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8D781-B4BC-4D6A-9F16-EB6278981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8FE20-9800-4372-8483-1606D37B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A028-186E-421E-B1FA-FB1CC35EB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754E8-27F5-4005-AA2D-235BE664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44C32-9658-4985-88DF-9FBA6DC3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DE14F-DC72-4B57-A1DE-B622B9A1D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1FFC6-008D-4511-BA7A-7F6496745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5CD08-A600-4AB5-9E81-6E673DD0A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AE80-69F8-45D5-806C-99B2FAD77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1676-C4BD-4E37-92CC-BCE20124B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442A-0636-4482-A922-85F475A66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459E-DEB7-42F6-9C72-D904AA72A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7AF2-0F1E-4A7B-8CB7-ECFC3B84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BAB0-5141-4E30-A27C-037CC3AB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1215-4E0A-4F13-91E7-F29F2476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68303-0297-4DAD-ABDF-9F2ABA56910E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6666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149E2-E4B0-4772-BE2C-BF5FB2E039FF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cutline.tubetorial.com/" TargetMode="External"/><Relationship Id="rId2" Type="http://schemas.openxmlformats.org/officeDocument/2006/relationships/hyperlink" Target="http://www.tubetorial.com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219320" y="1143000"/>
            <a:ext cx="749124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Rose's Awesome Animations!!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4876920"/>
            <a:ext cx="3809880" cy="24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400800" cy="51055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447920" y="228600"/>
            <a:ext cx="632448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00"/>
                </a:solidFill>
                <a:latin typeface="Comic Sans MS"/>
              </a:rPr>
              <a:t>I can write my name!!!!!!!</a:t>
            </a:r>
            <a:r>
              <a:rPr b="0" lang="en-US" sz="5400" spc="-1" strike="noStrike">
                <a:solidFill>
                  <a:srgbClr val="ff66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Comic Sans MS"/>
              </a:rPr>
              <a:t>Fishy likes bubbles!!!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676520" y="1981080"/>
            <a:ext cx="55623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68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Comic Sans MS"/>
              </a:rPr>
              <a:t>True Love!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590920" y="1447920"/>
            <a:ext cx="521964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Comic Sans MS"/>
              </a:rPr>
              <a:t>Diving Board Guy!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219320" y="1333440"/>
            <a:ext cx="552456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I Believe I can fly!!!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6495840" cy="45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-2289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Ooo… a Flower!!!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6172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Ooo.. I’m Morphing!!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34356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itation!!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© 2006 GNMParents. </a:t>
            </a:r>
            <a:r>
              <a:rPr b="0" lang="en-US" sz="3200" spc="-1" strike="noStrike" u="sng">
                <a:solidFill>
                  <a:srgbClr val="ffff99"/>
                </a:solidFill>
                <a:uFillTx/>
                <a:latin typeface="Comic Sans MS"/>
                <a:hlinkClick r:id="rId1"/>
              </a:rPr>
              <a:t>Cutline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by </a:t>
            </a:r>
            <a:r>
              <a:rPr b="0" lang="en-US" sz="3200" spc="-1" strike="noStrike" u="sng">
                <a:solidFill>
                  <a:srgbClr val="ffff99"/>
                </a:solidFill>
                <a:uFillTx/>
                <a:latin typeface="Comic Sans MS"/>
                <a:hlinkClick r:id="rId2"/>
              </a:rPr>
              <a:t>Chris Pearso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nmparents.com/.../05/summer_karly_swing.jpg 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6:26:10Z</dcterms:created>
  <dc:creator>FPS</dc:creator>
  <dc:description/>
  <dc:language>en-US</dc:language>
  <cp:lastModifiedBy>FPS</cp:lastModifiedBy>
  <dcterms:modified xsi:type="dcterms:W3CDTF">2009-03-11T17:29:14Z</dcterms:modified>
  <cp:revision>6</cp:revision>
  <dc:subject/>
  <dc:title>Slide 1</dc:title>
</cp:coreProperties>
</file>