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BAC-9157-4D16-89ED-8902AA74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021-93E0-45E8-8309-6DE9A2BF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16A-3EBD-4F79-B348-F1CA9F6F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5C5-1880-4C94-AE1B-8422A23D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D06D-E300-47A4-96B6-03ABE897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1BD-953F-422D-83A4-187950F1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C377-30BC-400E-8466-72F42E3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8FE4-BC84-4F96-9F67-37B7E39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6244-47AD-497C-AD11-BDE2849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895-BB87-4B8E-BB70-CE75F84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B8B7-04C4-49DC-B92F-C00BE4F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978-A1D2-4839-A4E7-10FA9D68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190-42CC-465C-A1FA-22F4DE1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F120-4A59-44AB-8880-7F1F54E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85A0-C961-475C-BF15-675A6D7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28D1-73CB-4DF4-8DF1-C42C4178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541-5877-46B1-AC96-AF6DC647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EE1-1342-4C9E-869F-EEF1911E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2F5-DE0E-4281-9914-42E5D950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F72-8F36-4224-BDE6-F4039917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88E-E956-49AA-A117-4E7F309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56F-94AA-472D-953C-8AFD828E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12C-A082-48A5-9E26-51E7A59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D95-BC14-40F9-BEDA-E12AA0F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368-D221-4C71-949F-42ACD90C74B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D85-0EB6-40D2-992A-B7015C34482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tline.tubetorial.com/" TargetMode="External"/><Relationship Id="rId2" Type="http://schemas.openxmlformats.org/officeDocument/2006/relationships/hyperlink" Target="http://www.tubetorial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143000"/>
            <a:ext cx="7491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se's Awesome Animations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38098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28600"/>
            <a:ext cx="6324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I can write my name!!!!!!!</a:t>
            </a: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shy likes bubbles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56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rue Love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Diving Board Gu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 Believe I can fly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958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… a Flower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.. I’m Morphing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tation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© 2006 GNMParents.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Cutl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Chris Pea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nmparents.com/.../05/summer_karly_swing.jpg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26:10Z</dcterms:created>
  <dc:creator>FPS</dc:creator>
  <dc:description/>
  <dc:language>en-US</dc:language>
  <cp:lastModifiedBy>FPS</cp:lastModifiedBy>
  <dcterms:modified xsi:type="dcterms:W3CDTF">2009-03-11T17:29:14Z</dcterms:modified>
  <cp:revision>6</cp:revision>
  <dc:subject/>
  <dc:title>Slide 1</dc:title>
</cp:coreProperties>
</file>