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7D6-F4D6-4896-8303-5C149126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7A0-CA83-48C7-9305-5704D80A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E93-514D-4B09-8951-AB894318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548-B145-4315-AEFE-6BA461EA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814A-23C0-4ACF-B5A5-8C37592D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819C-1C4A-4889-9DDD-A4A75325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76AE-8B93-458C-B368-9594F31B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F62B-43D3-4A53-B66D-2725E809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24F0-C3FF-48A3-BDD7-DC237C34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DB22-4DE7-4E61-B19D-AD547F84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27B0-C5D3-4AA2-A2C5-24E1656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A71-274D-49E3-B76F-F945D14C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E55F-DEA4-402B-8ACC-56163BB6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086E-C0FE-4E78-B672-0D4D1D52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F344-BAB9-4001-A529-FB9A5E93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C93B-FC00-4444-9D31-DB3DC432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73BD-3BA5-4E96-A97F-21ED82D7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FE4-A3BD-42FB-A291-60CCD7E6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D7B-BFF6-4FB8-A4FB-86207AD9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DE4-1485-476C-A40C-9429A856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690-5809-49B3-9D39-541531C6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65D-0A1B-4DB8-81D7-24509EB8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C45-98EA-40CB-8295-E167D561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6BB-B9A0-4A4F-BA0F-3CADF1A2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8019-D9B7-4A3E-ADEC-05C5986014FE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EC1E-CB6D-43A2-882E-81DB19D13476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utline.tubetorial.com/" TargetMode="External"/><Relationship Id="rId2" Type="http://schemas.openxmlformats.org/officeDocument/2006/relationships/hyperlink" Target="http://www.tubetorial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19320" y="1143000"/>
            <a:ext cx="74912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ose's Awesome Animations!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380988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400800" cy="5105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47920" y="228600"/>
            <a:ext cx="63244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I can write my name!!!!!!!</a:t>
            </a:r>
            <a:r>
              <a:rPr b="0" lang="en-US" sz="54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Fishy likes bubbles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562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Comic Sans MS"/>
              </a:rPr>
              <a:t>True Love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5219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Diving Board Guy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333440"/>
            <a:ext cx="55245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I Believe I can fly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4958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oo… a Flower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172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oo.. I’m Morphing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3435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itation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© 2006 GNMParents.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1"/>
              </a:rPr>
              <a:t>Cutlin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y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2"/>
              </a:rPr>
              <a:t>Chris Pears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nmparents.com/.../05/summer_karly_swing.jpg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6:26:10Z</dcterms:created>
  <dc:creator>FPS</dc:creator>
  <dc:description/>
  <dc:language>en-US</dc:language>
  <cp:lastModifiedBy>FPS</cp:lastModifiedBy>
  <dcterms:modified xsi:type="dcterms:W3CDTF">2009-03-11T17:29:14Z</dcterms:modified>
  <cp:revision>6</cp:revision>
  <dc:subject/>
  <dc:title>Slide 1</dc:title>
</cp:coreProperties>
</file>