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49C-7F03-46D1-A851-AE76B11E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B59-A9B8-451F-8469-C5D76A24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05D-6908-4602-8663-6A763D8A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47A-B8AC-493D-80C9-5A8F393E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2968-DB42-4225-B2EB-6D782620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DEE0-2832-439F-BD0B-74479182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9A58-95DC-4571-8295-D573E35E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9E73-E3DB-45EB-99C6-B5224FE5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9BAC-BD88-465F-9C56-C9A3C9F7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E399-95E5-40A3-B8B3-D30207F2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89C6-8CF5-4A11-B387-5E8B6A99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A3E-623F-4311-B4A9-EBCC54C0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769F-F10E-45C9-A9AE-1FE0846B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FA75-213E-4263-8FFE-A2A2F5BA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4476-7EFA-4E09-A8AA-BDEBDC4D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6FCE-54C7-410C-9D3D-196A75E8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2358-660D-4DA9-A043-48571F2C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DB7-F7B8-4FB8-824F-A61A59CD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928-BB8B-4BE4-B7AD-9938ED7F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092-515A-4741-B60F-BCD20BE3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0D7-C2EF-46A2-BFB6-B7784141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808-0685-41B5-9EFF-69D6FE78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175-6979-48EC-A93C-72252770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636-BAA1-4657-9163-29DE4279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9CB3-3083-4A71-8B42-138BB31F9B8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F5C2-88C7-444B-AAAB-A668015447F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utline.tubetorial.com/" TargetMode="External"/><Relationship Id="rId2" Type="http://schemas.openxmlformats.org/officeDocument/2006/relationships/hyperlink" Target="http://www.tubetorial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19320" y="1143000"/>
            <a:ext cx="74912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se's Awesome Animations!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380988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00800" cy="5105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47920" y="228600"/>
            <a:ext cx="63244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I can write my name!!!!!!!</a:t>
            </a:r>
            <a:r>
              <a:rPr b="0" lang="en-US" sz="5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Fishy likes bubbles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562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Comic Sans MS"/>
              </a:rPr>
              <a:t>True Love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5219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Diving Board Guy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333440"/>
            <a:ext cx="55245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 Believe I can fly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4958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oo… a Flower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172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oo.. I’m Morphing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3435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itation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© 2006 GNMParents.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1"/>
              </a:rPr>
              <a:t>Cutlin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y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2"/>
              </a:rPr>
              <a:t>Chris Pears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nmparents.com/.../05/summer_karly_swing.jpg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6:26:10Z</dcterms:created>
  <dc:creator>FPS</dc:creator>
  <dc:description/>
  <dc:language>en-US</dc:language>
  <cp:lastModifiedBy>FPS</cp:lastModifiedBy>
  <dcterms:modified xsi:type="dcterms:W3CDTF">2009-03-11T17:29:14Z</dcterms:modified>
  <cp:revision>6</cp:revision>
  <dc:subject/>
  <dc:title>Slide 1</dc:title>
</cp:coreProperties>
</file>