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8BCE-D76F-47A3-9DCB-5BF327E78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C21D-9C45-4430-9A6F-E251015A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1F88-4604-4F15-A810-2714D2ED8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2801-2F2C-4049-BE1B-B9C2FC08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04C5-D8AB-4A88-BF25-91B537C58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0044-9B9A-4C58-9574-05EC91D0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DFFB-68E0-4E77-942D-C4ADD860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955C-674D-41BF-985C-4FAC9013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9C9B-8FDD-4899-9CAE-980C5750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FB61-0350-4495-BE7E-95FF04F9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A998-E28D-423C-9A15-54F1657A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7B54-7FDF-43CB-859F-4AB3B71D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5E6B-BB68-494E-B97D-0E1B7110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A006-3C12-456D-B2D5-8DB23DB3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6064-3795-4E5D-AFC7-5FB20D9A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24B7-2025-4F78-9F11-69D647D15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3AF1-3D09-429D-8BF2-7BDECF08C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1266-7769-4EEE-BACE-CC6F8A12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2EB7-3C76-4F8A-94AD-6B1B9128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2447-3953-4C8F-9B41-E3D71E4F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2A0F-D5EC-43CF-B40D-85BD1398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0C10-3D9B-4CF3-8C10-7C5733A1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7AF1-9EDE-4471-84E0-0DA4A7A3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AE31-32C1-47CA-8AA5-888AFAEE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C5DE-3E00-401C-966C-FE49D8896F97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6666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E9F9-1AA0-49DB-BBDD-624E43C456CD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utline.tubetorial.com/" TargetMode="External"/><Relationship Id="rId2" Type="http://schemas.openxmlformats.org/officeDocument/2006/relationships/hyperlink" Target="http://www.tubetorial.com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219320" y="1143000"/>
            <a:ext cx="749124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ose's Awesome Animations!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4876920"/>
            <a:ext cx="3809880" cy="24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400800" cy="5105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447920" y="228600"/>
            <a:ext cx="632448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Comic Sans MS"/>
              </a:rPr>
              <a:t>I can write my name!!!!!!!</a:t>
            </a:r>
            <a:r>
              <a:rPr b="0" lang="en-US" sz="54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omic Sans MS"/>
              </a:rPr>
              <a:t>Fishy likes bubbles!!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55623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68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Comic Sans MS"/>
              </a:rPr>
              <a:t>True Love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90920" y="1447920"/>
            <a:ext cx="52196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omic Sans MS"/>
              </a:rPr>
              <a:t>Diving Board Guy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19320" y="1333440"/>
            <a:ext cx="552456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I Believe I can fly!!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495840" cy="45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oo… a Flower!!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6172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oo.. I’m Morphing!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34356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itation!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© 2006 GNMParents. 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Comic Sans MS"/>
                <a:hlinkClick r:id="rId1"/>
              </a:rPr>
              <a:t>Cutlin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by 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Comic Sans MS"/>
                <a:hlinkClick r:id="rId2"/>
              </a:rPr>
              <a:t>Chris Pears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nmparents.com/.../05/summer_karly_swing.jpg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6:26:10Z</dcterms:created>
  <dc:creator>FPS</dc:creator>
  <dc:description/>
  <dc:language>en-US</dc:language>
  <cp:lastModifiedBy>FPS</cp:lastModifiedBy>
  <dcterms:modified xsi:type="dcterms:W3CDTF">2009-03-11T17:29:14Z</dcterms:modified>
  <cp:revision>6</cp:revision>
  <dc:subject/>
  <dc:title>Slide 1</dc:title>
</cp:coreProperties>
</file>