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870-DDB6-4037-B6A5-04AA4701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7945-D2E0-4AC4-AD4E-5B659900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AA14-915E-42F7-9A96-3327CAD3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9E9B-C785-4A73-9854-123C900F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98E9-6C05-4A5F-B93A-99BF75A4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D8BC-351B-4827-A209-08857FB4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F43B-0E49-4165-AFFD-F5701D41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61FF-0399-44E5-98B3-6704B4E3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ECAE-F19E-417E-877E-2CFA84AC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C58C-5843-4BE6-8E84-3207A0EC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B811-1A05-454F-8110-5C0AB311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BA8-AABF-4AB9-98C5-AC61EA37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589D-DE6D-472A-BAC2-2502EBC8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243E-02F7-4972-82F2-452E7EE3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881D-CE53-4DAC-9471-B059A7F4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BAEE-C379-4415-B1D9-0A3090CC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1EBF-0F6C-4B59-8347-0C163CFA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62A-AFBE-4F16-8E60-BACFA387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BFC-820F-4621-8D3A-3FBF02D1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3874-DF0C-4CD2-8FFE-98A331E6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733-ED70-400C-A081-0129ADE4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915-9325-41A5-8A01-0854323D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1916-4DCC-4CAC-AD6D-7BEF6DD8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AF8-2C3F-4DE4-8996-7D13DD8B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69A4-1ADE-4411-86B9-D91661527AEA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FDBC-8518-4DCC-94A0-AFA6C1D4B4F3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utline.tubetorial.com/" TargetMode="External"/><Relationship Id="rId2" Type="http://schemas.openxmlformats.org/officeDocument/2006/relationships/hyperlink" Target="http://www.tubetorial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219320" y="1143000"/>
            <a:ext cx="74912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ose's Awesome Animations!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380988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400800" cy="5105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47920" y="228600"/>
            <a:ext cx="63244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Comic Sans MS"/>
              </a:rPr>
              <a:t>I can write my name!!!!!!!</a:t>
            </a:r>
            <a:r>
              <a:rPr b="0" lang="en-US" sz="54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Fishy likes bubbles!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562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8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Comic Sans MS"/>
              </a:rPr>
              <a:t>True Love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5219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Diving Board Guy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1333440"/>
            <a:ext cx="55245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I Believe I can fly!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4958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oo… a Flower!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6172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oo.. I’m Morphing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34356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itation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© 2006 GNMParents.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Comic Sans MS"/>
                <a:hlinkClick r:id="rId1"/>
              </a:rPr>
              <a:t>Cutlin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y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Comic Sans MS"/>
                <a:hlinkClick r:id="rId2"/>
              </a:rPr>
              <a:t>Chris Pears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nmparents.com/.../05/summer_karly_swing.jpg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6:26:10Z</dcterms:created>
  <dc:creator>FPS</dc:creator>
  <dc:description/>
  <dc:language>en-US</dc:language>
  <cp:lastModifiedBy>FPS</cp:lastModifiedBy>
  <dcterms:modified xsi:type="dcterms:W3CDTF">2009-03-11T17:29:14Z</dcterms:modified>
  <cp:revision>6</cp:revision>
  <dc:subject/>
  <dc:title>Slide 1</dc:title>
</cp:coreProperties>
</file>