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4D8-2349-44E2-811C-1BB14468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5CD-9661-4821-9A19-19E75F29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61E-0088-4421-9934-EF2580A3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52C-4AE4-438B-B9A2-679B94C8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786-33B4-46B5-8EE9-F03BE368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612-6503-4384-80C7-B1D24DBF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9FB-9017-49BF-9480-974A772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277-2905-4E0D-8E68-CAC001C1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355-9D76-4DD3-9A4D-D46C102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6B6-37DD-490C-AB13-E8A707E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B67-6DD7-4572-8B01-B9F31D0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2E4-F315-4078-AF0E-FC9C24D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A094-48D5-4811-9D00-B06FB94A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762120"/>
            <a:ext cx="8153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Ultra Bold Condensed"/>
              </a:rPr>
              <a:t>Molly's Animations (:</a:t>
            </a:r>
            <a:endParaRPr b="0" lang="en-US" sz="48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Ultra Bold Condensed"/>
              <a:ea typeface="Gill Sans Ultra Bold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495680"/>
            <a:ext cx="4038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Molly McH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Baskerville Old Face"/>
              </a:rPr>
              <a:t>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04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Boy jumping on a trampoline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465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457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Seagull flying in the sky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784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Fish jumping out of the water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4843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askerville Old Face"/>
              </a:rPr>
              <a:t>The sun rising (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37:40Z</dcterms:created>
  <dc:creator>FPS</dc:creator>
  <dc:description/>
  <dc:language>en-US</dc:language>
  <cp:lastModifiedBy>FPS</cp:lastModifiedBy>
  <dcterms:modified xsi:type="dcterms:W3CDTF">2009-05-20T15:32:47Z</dcterms:modified>
  <cp:revision>4</cp:revision>
  <dc:subject/>
  <dc:title>Slide 1</dc:title>
</cp:coreProperties>
</file>