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FA9-5EB1-40BD-A786-451CF0F4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C25-3E90-4C67-8361-76D3428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7B9-90A2-4929-A474-EA1E4EAC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A70-CEEA-405D-9AD3-E2A4C137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C0E-8599-462B-9412-2E064C9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BFF-A09F-4879-AEA6-A219DCB8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D96-BF6D-4BB8-A61A-95D35CF8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5F7-776B-4814-A21A-8D2A4B3D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358-3CDB-4BF2-A874-6271127C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929-1045-4D8D-9BDE-0AC2FC3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B53-3349-4E45-BA26-B3BDA10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FC-CF8E-4AD5-A291-0F28132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45C8-DE45-4351-AA4E-8072FCC1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914400"/>
            <a:ext cx="975348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My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by Charlie Do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Airplane Gets Attack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Bouncy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Hardcore Du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Piz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3:20Z</dcterms:created>
  <dc:creator>FPS</dc:creator>
  <dc:description/>
  <dc:language>en-US</dc:language>
  <cp:lastModifiedBy>FPS</cp:lastModifiedBy>
  <dcterms:modified xsi:type="dcterms:W3CDTF">2009-05-21T18:14:33Z</dcterms:modified>
  <cp:revision>6</cp:revision>
  <dc:subject/>
  <dc:title>Slide 1</dc:title>
</cp:coreProperties>
</file>