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8F7-2D14-4CB0-BE79-658D38A6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632-3D39-4F3A-BE0B-19DBA3CE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BC98-E32E-4C3F-A512-693858D7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C078-2832-49E5-B942-1D574E7C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CAA-B735-479C-B99A-41576418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0B28-0BA8-448C-BA0B-CBDE160B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D3C-C2AC-4918-873E-1896F6FB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A3D3-432C-436D-A845-6F31CB7F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5049-93D4-4B8D-A5A8-19592090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386-E783-41B2-B733-4C2DC560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0BA6-6AE3-42DB-BBF2-F56FF0D6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321-7E60-4D81-96D8-0088AC9C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A5EE-BF38-42B5-A847-3E1F28227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28600" y="914400"/>
            <a:ext cx="9753480" cy="539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24080" y="1676520"/>
            <a:ext cx="3505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Arial Black"/>
              </a:rPr>
              <a:t>My Anim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Arial Black"/>
              </a:rPr>
              <a:t>by Charlie Dod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Airplane Gets Attack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Bouncy Ba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220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Hardcore Du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37720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Pizz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13:20Z</dcterms:created>
  <dc:creator>FPS</dc:creator>
  <dc:description/>
  <dc:language>en-US</dc:language>
  <cp:lastModifiedBy>FPS</cp:lastModifiedBy>
  <dcterms:modified xsi:type="dcterms:W3CDTF">2009-05-21T18:14:33Z</dcterms:modified>
  <cp:revision>6</cp:revision>
  <dc:subject/>
  <dc:title>Slide 1</dc:title>
</cp:coreProperties>
</file>