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F03D-DE1F-4AAB-98F2-B8792D5DA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DF4F-BE55-4C84-ADF3-1007A1E7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BF42-25F3-4A38-AF6F-EE6B518D9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1FF4-9CA2-4AB7-9EF0-17B170632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E6CF-363D-4D95-A921-3314FF5A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5CEC-8208-4178-B17A-CE11D53D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D690-89C4-49C7-BB90-1A571F3A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FC5F-5F2C-4CE5-9E48-83AA2877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B00B-37E7-4BE1-9677-4344AA71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DBAB-3163-4335-AA7C-4C621B10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FE69-A7AA-4F15-B2F2-90798FE4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5721-6E58-4F7D-A9B8-9DD56463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0680-3ECA-4111-995B-691DE33DE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762120"/>
            <a:ext cx="81532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99cc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ill Sans Ultra Bold Condensed"/>
              </a:rPr>
              <a:t>Molly's Animations (:</a:t>
            </a:r>
            <a:endParaRPr b="0" lang="en-US" sz="4800" spc="1" strike="noStrike">
              <a:ln w="12600">
                <a:solidFill>
                  <a:srgbClr val="ff9900"/>
                </a:solidFill>
                <a:miter/>
              </a:ln>
              <a:solidFill>
                <a:srgbClr val="ff99cc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ill Sans Ultra Bold Condensed"/>
              <a:ea typeface="Gill Sans Ultra Bold Condensed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4495680"/>
            <a:ext cx="40388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Baskerville Old Face"/>
              </a:rPr>
              <a:t>Molly McH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Baskerville Old Face"/>
              </a:rPr>
              <a:t>Compu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Baskerville Old Face"/>
              </a:rPr>
              <a:t>Period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4952880" cy="4953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30492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Baskerville Old Face"/>
              </a:rPr>
              <a:t>Boy jumping on a trampoline (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010640" cy="4657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4572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Baskerville Old Face"/>
              </a:rPr>
              <a:t>Seagull flying in the sky (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086600" cy="4784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48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Baskerville Old Face"/>
              </a:rPr>
              <a:t>Fish jumping out of the water (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782040" cy="4843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Baskerville Old Face"/>
              </a:rPr>
              <a:t>The sun rising (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5:37:40Z</dcterms:created>
  <dc:creator>FPS</dc:creator>
  <dc:description/>
  <dc:language>en-US</dc:language>
  <cp:lastModifiedBy>FPS</cp:lastModifiedBy>
  <dcterms:modified xsi:type="dcterms:W3CDTF">2009-05-20T15:32:47Z</dcterms:modified>
  <cp:revision>4</cp:revision>
  <dc:subject/>
  <dc:title>Slide 1</dc:title>
</cp:coreProperties>
</file>