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5F76-D30D-4CDA-AAC6-6D58D321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FCD-FB0C-45EA-BC3B-E1D865F1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269-F3FA-436F-B98D-2FF794C5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62E-8C6E-441E-AC8F-0D84918F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931-1F94-41CB-B21B-DCFB0F1B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865-CF92-4327-92FD-0B94990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120-BEAE-447C-BB74-229D8182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48D-DDF6-4FC1-A64A-E7C5B455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97E-8AA4-404A-A143-80E7076C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E84-B7D9-4C23-96D0-B1985311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3BD-05AE-4FFF-9DB5-70838C3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96A-E42D-47E4-B8C7-A73C15B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C00D-7252-4142-AAE4-D80C213E1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762120"/>
            <a:ext cx="8153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Ultra Bold Condensed"/>
              </a:rPr>
              <a:t>Molly's Animations (:</a:t>
            </a:r>
            <a:endParaRPr b="0" lang="en-US" sz="48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4495680"/>
            <a:ext cx="4038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Molly McH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Boy jumping on a trampoline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10640" cy="465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572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Seagull flying in the sky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78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Fish jumping out of the water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484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The sun rising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37:40Z</dcterms:created>
  <dc:creator>FPS</dc:creator>
  <dc:description/>
  <dc:language>en-US</dc:language>
  <cp:lastModifiedBy>FPS</cp:lastModifiedBy>
  <dcterms:modified xsi:type="dcterms:W3CDTF">2009-05-20T15:32:47Z</dcterms:modified>
  <cp:revision>4</cp:revision>
  <dc:subject/>
  <dc:title>Slide 1</dc:title>
</cp:coreProperties>
</file>