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AA9-745E-4623-BD0E-E117603E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837-0C68-465F-8762-966E4AB9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E84-9E7A-4B77-8945-EAEB9CA9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EC5-E565-43BE-B5F9-ABEA0BA7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B86-9747-4F1C-B601-B18053BB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B2F-44D9-4ECF-9DFC-7693180D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A9A-190D-421F-B255-23089430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529-FD98-4414-91C7-54DDE3CB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A27-CAB5-4573-9346-FB55829F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35F-3E39-4F0F-B783-1FD7278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4C8-1D3C-4963-952C-0AD16726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07E-A08B-40F1-8A6B-AED21B63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281D-8D60-48DC-B7CB-80F399EC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914400"/>
            <a:ext cx="9753480" cy="539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1676520"/>
            <a:ext cx="3505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My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by Charlie Do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Airplane Gets Attack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Bouncy B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220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Hardcore Du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Pizz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3:20Z</dcterms:created>
  <dc:creator>FPS</dc:creator>
  <dc:description/>
  <dc:language>en-US</dc:language>
  <cp:lastModifiedBy>FPS</cp:lastModifiedBy>
  <dcterms:modified xsi:type="dcterms:W3CDTF">2009-05-21T18:14:33Z</dcterms:modified>
  <cp:revision>6</cp:revision>
  <dc:subject/>
  <dc:title>Slide 1</dc:title>
</cp:coreProperties>
</file>