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E37-0A12-490C-9107-7DB9933D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759-6B41-4A80-B8F4-6627A381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F28-8E46-468F-8216-8B9250D2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F28-3ED6-4526-8E5F-F21EB007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24A-44FE-419F-9E75-DD03B9FC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01F-6672-403B-97D2-EC039712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440-811F-4CE4-B5FF-E39A086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13B-348B-4CFF-9A50-2C84C9E9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6A0-8691-44B0-9CB0-E8841AE2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99F-932B-46DF-BAA0-502F0E8A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BD4-E508-4F06-A615-113D8060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843-EF0B-4CDF-A288-9A1B92E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F2E-008E-41D9-A629-1E446E245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914400"/>
            <a:ext cx="975348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My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by Charlie Do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Airplane Gets Attack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Bouncy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Hardcore Du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Piz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3:20Z</dcterms:created>
  <dc:creator>FPS</dc:creator>
  <dc:description/>
  <dc:language>en-US</dc:language>
  <cp:lastModifiedBy>FPS</cp:lastModifiedBy>
  <dcterms:modified xsi:type="dcterms:W3CDTF">2009-05-21T18:14:33Z</dcterms:modified>
  <cp:revision>6</cp:revision>
  <dc:subject/>
  <dc:title>Slide 1</dc:title>
</cp:coreProperties>
</file>