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805F-32FD-4422-BE18-44B03F66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7487-26CA-48C5-87CE-AA283D52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6F78-ADF5-45FE-A06B-AD70C659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A6FF-BB85-4484-9291-7F7E1B84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3C6F-D39B-404A-BAFC-97AFF108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752A-17CD-4D4B-94D9-274BD86A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F517-3CE9-431E-91D5-8CB9F950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0278-F358-46E8-AFA3-FC77B036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41EB-BCB0-48E0-A852-4D78B392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3653-6459-4FEC-98EB-F8CA1804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7916-B54A-4997-9407-B987379A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F4C1-D8A4-4528-B743-31A65F2C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6804-3C63-4A7B-BAC2-02E0A4467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28600" y="914400"/>
            <a:ext cx="9753480" cy="5391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124080" y="1676520"/>
            <a:ext cx="3505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Arial Black"/>
              </a:rPr>
              <a:t>My Anima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Arial Black"/>
              </a:rPr>
              <a:t>by Charlie Dod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Airplane Gets Attack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Bouncy Bal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220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Hardcore Du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6880" y="1905120"/>
            <a:ext cx="37720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Pizz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13:20Z</dcterms:created>
  <dc:creator>FPS</dc:creator>
  <dc:description/>
  <dc:language>en-US</dc:language>
  <cp:lastModifiedBy>FPS</cp:lastModifiedBy>
  <dcterms:modified xsi:type="dcterms:W3CDTF">2009-05-21T18:14:33Z</dcterms:modified>
  <cp:revision>6</cp:revision>
  <dc:subject/>
  <dc:title>Slide 1</dc:title>
</cp:coreProperties>
</file>